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ush.wav" ContentType="audio/x-wav"/>
  <Override PartName="/ppt/media/type.wav" ContentType="audio/x-wav"/>
  <Override PartName="/ppt/media/drumroll.wav" ContentType="audio/x-wav"/>
  <Override PartName="/ppt/media/applause.wav" ContentType="audio/x-wav"/>
  <Override PartName="/ppt/media/wind.wav" ContentType="audio/x-wav"/>
  <Override PartName="/ppt/media/suction.wav" ContentType="audio/x-wav"/>
  <Override PartName="/ppt/media/chimes.wav" ContentType="audio/x-wav"/>
  <Override PartName="/ppt/media/click.wav" ContentType="audio/x-wav"/>
  <Override PartName="/ppt/media/hammer.wav" ContentType="audio/x-wav"/>
  <Override PartName="/ppt/media/breeze.wav" ContentType="audio/x-wav"/>
  <Override PartName="/ppt/media/cashreg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248-2FC8-4EFD-A497-BE56CE8939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  6.1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пересечение плоск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5.6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  6.14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е пересечение плоскост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4 5.68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тор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42  3.82 боковая гр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0 сначала строится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0 сначала строится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 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1  12.91 ...пересекает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53   6.42 плоскость осн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9 7.26 невидимые линии боковой плос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57   4.13 с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 0 сначала строится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  1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1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тог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1  12.91 ...пересекает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53   6.42 плоскость осн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9 7.26 невидимые линии боковой плос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13.38 концы отрез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65  10.77 сле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чение 8.18 3.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лая призма 5.05 6.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алая 2 9.89 5.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точним 6.77 1.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екущая 0.85 1.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Желтое сечение 9.1 6.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2B82-7954-4239-914C-9E0AE163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9572-98D0-41F6-BB96-DF9E12D9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5ABE-C978-465E-823E-17FFCB10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6B6-E776-42C7-AF6B-CEF02F47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E48-8422-4230-AC56-A79B255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FDF-826E-42BC-BF91-07621F02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C3D-274E-446B-B4FE-2237EC92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429-734A-42E8-9E7E-4C4B62B3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489-DB90-4202-8817-D64C913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13B-1FA3-4DBD-8B64-93F39B8A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0BFD-9D4C-4C0D-ABD1-C941F57E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AA95-B0D0-4918-80D2-698F8288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578F-897D-4CBE-85E7-5FAE66CA8B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pu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wind.wav"/><Relationship Id="rId3" Type="http://schemas.openxmlformats.org/officeDocument/2006/relationships/audio" Target="../media/drumroll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wind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audio" Target="../media/breeze.wav"/><Relationship Id="rId16" Type="http://schemas.openxmlformats.org/officeDocument/2006/relationships/audio" Target="../media/breeze.wav"/><Relationship Id="rId17" Type="http://schemas.openxmlformats.org/officeDocument/2006/relationships/audio" Target="../media/breeze.wav"/><Relationship Id="rId18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wind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wind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suction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breeze.wav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chimes.wav"/><Relationship Id="rId4" Type="http://schemas.openxmlformats.org/officeDocument/2006/relationships/audio" Target="../media/breeze.wav"/><Relationship Id="rId5" Type="http://schemas.openxmlformats.org/officeDocument/2006/relationships/audio" Target="../media/hammer.wav"/><Relationship Id="rId6" Type="http://schemas.openxmlformats.org/officeDocument/2006/relationships/audio" Target="../media/breeze.wav"/><Relationship Id="rId7" Type="http://schemas.openxmlformats.org/officeDocument/2006/relationships/audio" Target="../media/hammer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hammer.wav"/><Relationship Id="rId11" Type="http://schemas.openxmlformats.org/officeDocument/2006/relationships/audio" Target="../media/breeze.wav"/><Relationship Id="rId12" Type="http://schemas.openxmlformats.org/officeDocument/2006/relationships/audio" Target="../media/hammer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audio" Target="../media/hammer.wav"/><Relationship Id="rId16" Type="http://schemas.openxmlformats.org/officeDocument/2006/relationships/audio" Target="../media/breeze.wav"/><Relationship Id="rId17" Type="http://schemas.openxmlformats.org/officeDocument/2006/relationships/audio" Target="../media/hammer.wav"/><Relationship Id="rId18" Type="http://schemas.openxmlformats.org/officeDocument/2006/relationships/audio" Target="../media/breeze.wav"/><Relationship Id="rId19" Type="http://schemas.openxmlformats.org/officeDocument/2006/relationships/audio" Target="../media/breeze.wav"/><Relationship Id="rId20" Type="http://schemas.openxmlformats.org/officeDocument/2006/relationships/audio" Target="../media/applause.wav"/><Relationship Id="rId21" Type="http://schemas.openxmlformats.org/officeDocument/2006/relationships/slideLayout" Target="../slideLayouts/slideLayout3.xml"/><Relationship Id="rId2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audio" Target="../media/breeze.wav"/><Relationship Id="rId10" Type="http://schemas.openxmlformats.org/officeDocument/2006/relationships/audio" Target="../media/breeze.wav"/><Relationship Id="rId11" Type="http://schemas.openxmlformats.org/officeDocument/2006/relationships/audio" Target="../media/breeze.wav"/><Relationship Id="rId12" Type="http://schemas.openxmlformats.org/officeDocument/2006/relationships/audio" Target="../media/breeze.wav"/><Relationship Id="rId13" Type="http://schemas.openxmlformats.org/officeDocument/2006/relationships/audio" Target="../media/breeze.wav"/><Relationship Id="rId14" Type="http://schemas.openxmlformats.org/officeDocument/2006/relationships/audio" Target="../media/breeze.wav"/><Relationship Id="rId15" Type="http://schemas.openxmlformats.org/officeDocument/2006/relationships/audio" Target="../media/breeze.wav"/><Relationship Id="rId16" Type="http://schemas.openxmlformats.org/officeDocument/2006/relationships/audio" Target="../media/breeze.wav"/><Relationship Id="rId17" Type="http://schemas.openxmlformats.org/officeDocument/2006/relationships/audio" Target="../media/breeze.wav"/><Relationship Id="rId18" Type="http://schemas.openxmlformats.org/officeDocument/2006/relationships/audio" Target="../media/breeze.wav"/><Relationship Id="rId19" Type="http://schemas.openxmlformats.org/officeDocument/2006/relationships/audio" Target="../media/breeze.wav"/><Relationship Id="rId20" Type="http://schemas.openxmlformats.org/officeDocument/2006/relationships/audio" Target="../media/chimes.wav"/><Relationship Id="rId21" Type="http://schemas.openxmlformats.org/officeDocument/2006/relationships/audio" Target="../media/type.wav"/><Relationship Id="rId22" Type="http://schemas.openxmlformats.org/officeDocument/2006/relationships/audio" Target="../media/breez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hammer.wav"/><Relationship Id="rId26" Type="http://schemas.openxmlformats.org/officeDocument/2006/relationships/audio" Target="../media/breeze.wav"/><Relationship Id="rId27" Type="http://schemas.openxmlformats.org/officeDocument/2006/relationships/audio" Target="../media/chimes.wav"/><Relationship Id="rId28" Type="http://schemas.openxmlformats.org/officeDocument/2006/relationships/audio" Target="../media/type.wav"/><Relationship Id="rId29" Type="http://schemas.openxmlformats.org/officeDocument/2006/relationships/audio" Target="../media/breeze.wav"/><Relationship Id="rId30" Type="http://schemas.openxmlformats.org/officeDocument/2006/relationships/audio" Target="../media/chimes.wav"/><Relationship Id="rId31" Type="http://schemas.openxmlformats.org/officeDocument/2006/relationships/audio" Target="../media/hammer.wav"/><Relationship Id="rId32" Type="http://schemas.openxmlformats.org/officeDocument/2006/relationships/audio" Target="../media/hammer.wav"/><Relationship Id="rId33" Type="http://schemas.openxmlformats.org/officeDocument/2006/relationships/audio" Target="../media/type.wav"/><Relationship Id="rId34" Type="http://schemas.openxmlformats.org/officeDocument/2006/relationships/audio" Target="../media/chimes.wav"/><Relationship Id="rId35" Type="http://schemas.openxmlformats.org/officeDocument/2006/relationships/audio" Target="../media/breeze.wav"/><Relationship Id="rId36" Type="http://schemas.openxmlformats.org/officeDocument/2006/relationships/audio" Target="../media/hammer.wav"/><Relationship Id="rId37" Type="http://schemas.openxmlformats.org/officeDocument/2006/relationships/audio" Target="../media/breeze.wav"/><Relationship Id="rId38" Type="http://schemas.openxmlformats.org/officeDocument/2006/relationships/audio" Target="../media/hammer.wav"/><Relationship Id="rId39" Type="http://schemas.openxmlformats.org/officeDocument/2006/relationships/audio" Target="../media/breeze.wav"/><Relationship Id="rId40" Type="http://schemas.openxmlformats.org/officeDocument/2006/relationships/audio" Target="../media/hammer.wav"/><Relationship Id="rId41" Type="http://schemas.openxmlformats.org/officeDocument/2006/relationships/audio" Target="../media/breeze.wav"/><Relationship Id="rId42" Type="http://schemas.openxmlformats.org/officeDocument/2006/relationships/audio" Target="../media/hammer.wav"/><Relationship Id="rId43" Type="http://schemas.openxmlformats.org/officeDocument/2006/relationships/audio" Target="../media/breeze.wav"/><Relationship Id="rId44" Type="http://schemas.openxmlformats.org/officeDocument/2006/relationships/audio" Target="../media/hammer.wav"/><Relationship Id="rId45" Type="http://schemas.openxmlformats.org/officeDocument/2006/relationships/audio" Target="../media/breeze.wav"/><Relationship Id="rId46" Type="http://schemas.openxmlformats.org/officeDocument/2006/relationships/audio" Target="../media/hammer.wav"/><Relationship Id="rId47" Type="http://schemas.openxmlformats.org/officeDocument/2006/relationships/audio" Target="../media/breeze.wav"/><Relationship Id="rId48" Type="http://schemas.openxmlformats.org/officeDocument/2006/relationships/audio" Target="../media/applause.wav"/><Relationship Id="rId4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audio" Target="../media/suction.wav"/><Relationship Id="rId5" Type="http://schemas.openxmlformats.org/officeDocument/2006/relationships/audio" Target="../media/wind.wav"/><Relationship Id="rId6" Type="http://schemas.openxmlformats.org/officeDocument/2006/relationships/audio" Target="../media/suction.wav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type.wav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hammer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breeze.wav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breeze.wav"/><Relationship Id="rId12" Type="http://schemas.openxmlformats.org/officeDocument/2006/relationships/audio" Target="../media/hammer.wav"/><Relationship Id="rId13" Type="http://schemas.openxmlformats.org/officeDocument/2006/relationships/audio" Target="../media/breeze.wav"/><Relationship Id="rId14" Type="http://schemas.openxmlformats.org/officeDocument/2006/relationships/audio" Target="../media/hammer.wav"/><Relationship Id="rId15" Type="http://schemas.openxmlformats.org/officeDocument/2006/relationships/audio" Target="../media/breeze.wav"/><Relationship Id="rId16" Type="http://schemas.openxmlformats.org/officeDocument/2006/relationships/audio" Target="../media/applause.wav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push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himes.wav"/><Relationship Id="rId24" Type="http://schemas.openxmlformats.org/officeDocument/2006/relationships/audio" Target="../media/drumroll.wav"/><Relationship Id="rId25" Type="http://schemas.openxmlformats.org/officeDocument/2006/relationships/audio" Target="../media/wind.wav"/><Relationship Id="rId26" Type="http://schemas.openxmlformats.org/officeDocument/2006/relationships/audio" Target="../media/push.wav"/><Relationship Id="rId27" Type="http://schemas.openxmlformats.org/officeDocument/2006/relationships/slideLayout" Target="../slideLayouts/slideLayout3.xml"/><Relationship Id="rId2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audio" Target="../media/wind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wind.wav"/><Relationship Id="rId8" Type="http://schemas.openxmlformats.org/officeDocument/2006/relationships/audio" Target="../media/suction.wav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atematika-na5.narod.ru/" TargetMode="External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мена слайдов осуществляется по щелчку мыши, но процесс построения занимает определенное время, поэтому щелкать можно только тогда, когда на слайде появится надпись                иначе вы пропустите все самое интерес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я озвучена, но лучше смотреть её без звука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530680" y="3790800"/>
            <a:ext cx="147672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402000" y="2222640"/>
            <a:ext cx="1298520" cy="3498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78240" y="2627280"/>
            <a:ext cx="1336680" cy="3498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49680" y="2222640"/>
            <a:ext cx="1336680" cy="3517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7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96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16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36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560"/>
                            </p:stCondLst>
                            <p:childTnLst>
                              <p:par>
                                <p:cTn id="3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76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96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416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436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560"/>
                            </p:stCondLst>
                            <p:childTnLst>
                              <p:par>
                                <p:cTn id="4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760"/>
                            </p:stCondLst>
                            <p:childTnLst>
                              <p:par>
                                <p:cTn id="4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402000" y="2222640"/>
            <a:ext cx="1298520" cy="3498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87960" y="2646360"/>
            <a:ext cx="1326960" cy="3479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49680" y="2222640"/>
            <a:ext cx="1327320" cy="3517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0600" y="93492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м плоскость основания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198360" y="5446440"/>
            <a:ext cx="7388280" cy="862200"/>
            <a:chOff x="198360" y="5446440"/>
            <a:chExt cx="7388280" cy="862200"/>
          </a:xfrm>
        </p:grpSpPr>
        <p:sp>
          <p:nvSpPr>
            <p:cNvPr id="383" name="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39680" y="6299280"/>
              <a:ext cx="654696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32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3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32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30800" y="4732200"/>
            <a:ext cx="369720" cy="98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67160" y="4124160"/>
            <a:ext cx="619200" cy="1609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0600" y="93492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м плоскость основания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198360" y="5446440"/>
            <a:ext cx="7381800" cy="862200"/>
            <a:chOff x="198360" y="5446440"/>
            <a:chExt cx="7381800" cy="862200"/>
          </a:xfrm>
        </p:grpSpPr>
        <p:sp>
          <p:nvSpPr>
            <p:cNvPr id="402" name="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39680" y="629928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390600" y="144288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екущую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940280" y="4327560"/>
            <a:ext cx="674640" cy="17985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402000" y="2236680"/>
            <a:ext cx="603360" cy="1670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556160" y="2239920"/>
            <a:ext cx="376200" cy="10144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997440" y="3254400"/>
            <a:ext cx="1271520" cy="1498680"/>
            <a:chOff x="3997440" y="3254400"/>
            <a:chExt cx="1271520" cy="1498680"/>
          </a:xfrm>
        </p:grpSpPr>
        <p:sp>
          <p:nvSpPr>
            <p:cNvPr id="413" name=""/>
            <p:cNvSpPr/>
            <p:nvPr/>
          </p:nvSpPr>
          <p:spPr>
            <a:xfrm>
              <a:off x="3997440" y="3889440"/>
              <a:ext cx="34452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67200" y="4156200"/>
              <a:ext cx="84240" cy="2095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937040" y="3254400"/>
              <a:ext cx="331920" cy="882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444600" y="2346480"/>
            <a:ext cx="6350040" cy="4416120"/>
            <a:chOff x="444600" y="2346480"/>
            <a:chExt cx="6350040" cy="4416120"/>
          </a:xfrm>
        </p:grpSpPr>
        <p:sp>
          <p:nvSpPr>
            <p:cNvPr id="417" name=""/>
            <p:cNvSpPr/>
            <p:nvPr/>
          </p:nvSpPr>
          <p:spPr>
            <a:xfrm flipV="1">
              <a:off x="444600" y="5824440"/>
              <a:ext cx="133200" cy="90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028760" y="3219480"/>
              <a:ext cx="880920" cy="704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1852560" y="3174480"/>
              <a:ext cx="4942080" cy="31338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1041480" y="3619440"/>
              <a:ext cx="2882880" cy="1852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956200" y="2346480"/>
              <a:ext cx="82728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905360" y="3200400"/>
              <a:ext cx="14400" cy="9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 flipV="1">
              <a:off x="4000680" y="3924000"/>
              <a:ext cx="9093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V="1">
              <a:off x="571680" y="5456160"/>
              <a:ext cx="495000" cy="36360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9280" y="589932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1279440" y="6297480"/>
              <a:ext cx="590760" cy="46512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086360" y="3846600"/>
              <a:ext cx="33120" cy="79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4146120" y="3776760"/>
              <a:ext cx="5868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4204800" y="3681360"/>
              <a:ext cx="103320" cy="295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276440" y="3618000"/>
              <a:ext cx="135000" cy="39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4343040" y="3548160"/>
              <a:ext cx="166680" cy="4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4414680" y="3446640"/>
              <a:ext cx="192240" cy="58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481640" y="3382920"/>
              <a:ext cx="21744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4539960" y="3281400"/>
              <a:ext cx="268200" cy="77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4605480" y="3211560"/>
              <a:ext cx="287280" cy="86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678200" y="3395520"/>
              <a:ext cx="236880" cy="68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743000" y="3579840"/>
              <a:ext cx="179640" cy="51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4827600" y="3840120"/>
              <a:ext cx="84240" cy="27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914640" y="3025800"/>
              <a:ext cx="924120" cy="60336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843440" y="2355480"/>
              <a:ext cx="1130400" cy="6778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52640" y="5448240"/>
              <a:ext cx="820440" cy="854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"/>
            <p:cNvGrpSpPr/>
            <p:nvPr/>
          </p:nvGrpSpPr>
          <p:grpSpPr>
            <a:xfrm>
              <a:off x="3990960" y="3254400"/>
              <a:ext cx="1271520" cy="1498680"/>
              <a:chOff x="3990960" y="3254400"/>
              <a:chExt cx="1271520" cy="1498680"/>
            </a:xfrm>
          </p:grpSpPr>
          <p:sp>
            <p:nvSpPr>
              <p:cNvPr id="443" name=""/>
              <p:cNvSpPr/>
              <p:nvPr/>
            </p:nvSpPr>
            <p:spPr>
              <a:xfrm>
                <a:off x="3990960" y="3889440"/>
                <a:ext cx="344520" cy="863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60720" y="4156200"/>
                <a:ext cx="84240" cy="2095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930560" y="3254400"/>
                <a:ext cx="331920" cy="882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4286160" y="2657520"/>
            <a:ext cx="588960" cy="1512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720"/>
                            </p:stCondLst>
                            <p:childTnLst>
                              <p:par>
                                <p:cTn id="4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xit" presetID="22" presetSubtype="2">
                                  <p:stCondLst>
                                    <p:cond delay="208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447" dur="7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372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330800" y="4732200"/>
            <a:ext cx="369720" cy="98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261040" y="4124160"/>
            <a:ext cx="587160" cy="1597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18960" y="40464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0600" y="93492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ведем плоскость основания приз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98360" y="5446440"/>
            <a:ext cx="7381800" cy="862200"/>
            <a:chOff x="198360" y="5446440"/>
            <a:chExt cx="7381800" cy="862200"/>
          </a:xfrm>
        </p:grpSpPr>
        <p:sp>
          <p:nvSpPr>
            <p:cNvPr id="457" name="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039680" y="629928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390600" y="1442880"/>
            <a:ext cx="831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секущую плоск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40280" y="4327560"/>
            <a:ext cx="674640" cy="17985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381480" y="2211480"/>
            <a:ext cx="1550880" cy="1958760"/>
            <a:chOff x="3381480" y="2211480"/>
            <a:chExt cx="1550880" cy="1958760"/>
          </a:xfrm>
        </p:grpSpPr>
        <p:sp>
          <p:nvSpPr>
            <p:cNvPr id="466" name=""/>
            <p:cNvSpPr/>
            <p:nvPr/>
          </p:nvSpPr>
          <p:spPr>
            <a:xfrm>
              <a:off x="4286160" y="2657520"/>
              <a:ext cx="588960" cy="1512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3381480" y="2211480"/>
              <a:ext cx="1550880" cy="1695240"/>
              <a:chOff x="3381480" y="2211480"/>
              <a:chExt cx="1550880" cy="1695240"/>
            </a:xfrm>
          </p:grpSpPr>
          <p:sp>
            <p:nvSpPr>
              <p:cNvPr id="468" name=""/>
              <p:cNvSpPr/>
              <p:nvPr/>
            </p:nvSpPr>
            <p:spPr>
              <a:xfrm>
                <a:off x="3381480" y="2211480"/>
                <a:ext cx="914400" cy="4460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4290840" y="2222280"/>
                <a:ext cx="266760" cy="4381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381480" y="2211480"/>
                <a:ext cx="1181160" cy="2700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402000" y="2236680"/>
                <a:ext cx="603360" cy="167004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562640" y="2265480"/>
                <a:ext cx="369720" cy="988920"/>
              </a:xfrm>
              <a:prstGeom prst="line">
                <a:avLst/>
              </a:prstGeom>
              <a:ln w="381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" name=""/>
          <p:cNvSpPr/>
          <p:nvPr/>
        </p:nvSpPr>
        <p:spPr>
          <a:xfrm flipV="1">
            <a:off x="444600" y="5824440"/>
            <a:ext cx="133200" cy="90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4028760" y="3219480"/>
            <a:ext cx="880920" cy="7048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852560" y="3187440"/>
            <a:ext cx="4916520" cy="312084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041480" y="3619440"/>
            <a:ext cx="2882880" cy="18525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956200" y="2346480"/>
            <a:ext cx="852480" cy="8571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4905360" y="3200400"/>
            <a:ext cx="14400" cy="9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 flipV="1">
            <a:off x="4000680" y="3924000"/>
            <a:ext cx="90936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71680" y="5456160"/>
            <a:ext cx="495000" cy="36360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49280" y="5899320"/>
            <a:ext cx="852480" cy="8571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1279440" y="6297480"/>
            <a:ext cx="590760" cy="46512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086360" y="3846600"/>
            <a:ext cx="33120" cy="79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4146120" y="3776760"/>
            <a:ext cx="58680" cy="1746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4204800" y="3681360"/>
            <a:ext cx="103320" cy="2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4276440" y="3618000"/>
            <a:ext cx="135000" cy="396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4343040" y="3548160"/>
            <a:ext cx="166680" cy="466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414680" y="3446640"/>
            <a:ext cx="192240" cy="580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4481640" y="3382920"/>
            <a:ext cx="217440" cy="669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539960" y="3281400"/>
            <a:ext cx="268200" cy="7779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4605480" y="3211560"/>
            <a:ext cx="287280" cy="8604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4678200" y="3395520"/>
            <a:ext cx="236880" cy="682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4743000" y="3579840"/>
            <a:ext cx="179640" cy="511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4827600" y="3840120"/>
            <a:ext cx="84240" cy="270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3914640" y="3025800"/>
            <a:ext cx="924120" cy="603360"/>
          </a:xfrm>
          <a:prstGeom prst="line">
            <a:avLst/>
          </a:prstGeom>
          <a:ln w="19080">
            <a:solidFill>
              <a:srgbClr val="800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4843440" y="2343240"/>
            <a:ext cx="1155600" cy="6904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52640" y="5448240"/>
            <a:ext cx="820440" cy="854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990960" y="3254400"/>
            <a:ext cx="1271520" cy="1498680"/>
            <a:chOff x="3990960" y="3254400"/>
            <a:chExt cx="1271520" cy="1498680"/>
          </a:xfrm>
        </p:grpSpPr>
        <p:sp>
          <p:nvSpPr>
            <p:cNvPr id="499" name=""/>
            <p:cNvSpPr/>
            <p:nvPr/>
          </p:nvSpPr>
          <p:spPr>
            <a:xfrm>
              <a:off x="3990960" y="3889440"/>
              <a:ext cx="344520" cy="86364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60720" y="4156200"/>
              <a:ext cx="84240" cy="20952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30560" y="3254400"/>
              <a:ext cx="331920" cy="88272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984480" y="3186000"/>
            <a:ext cx="960120" cy="974880"/>
            <a:chOff x="3984480" y="3186000"/>
            <a:chExt cx="960120" cy="974880"/>
          </a:xfrm>
        </p:grpSpPr>
        <p:sp>
          <p:nvSpPr>
            <p:cNvPr id="503" name=""/>
            <p:cNvSpPr/>
            <p:nvPr/>
          </p:nvSpPr>
          <p:spPr>
            <a:xfrm>
              <a:off x="4043160" y="3957840"/>
              <a:ext cx="799920" cy="1857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4895640" y="3186000"/>
              <a:ext cx="48960" cy="97488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984480" y="3189240"/>
              <a:ext cx="949320" cy="79560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 flipV="1">
            <a:off x="3908520" y="3015720"/>
            <a:ext cx="971280" cy="6130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1658880"/>
            <a:ext cx="9144000" cy="3445560"/>
          </a:xfrm>
          <a:prstGeom prst="rect">
            <a:avLst/>
          </a:prstGeom>
          <a:solidFill>
            <a:srgbClr val="3366ff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ямая на плоскости основания, через которую проходит секущая плоскость называется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ледом секущей плоскости на плоскости основани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52640" y="5448240"/>
            <a:ext cx="820440" cy="8542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7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3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47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2" dur="3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3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00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22" presetSubtype="4">
                                  <p:stCondLst>
                                    <p:cond delay="450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4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18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0"/>
                            </p:stCondLst>
                            <p:childTnLst>
                              <p:par>
                                <p:cTn id="473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75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12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170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200"/>
                            </p:stCondLst>
                            <p:childTnLst>
                              <p:par>
                                <p:cTn id="48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7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3200"/>
                            </p:stCondLst>
                            <p:childTnLst>
                              <p:par>
                                <p:cTn id="49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3700"/>
                            </p:stCondLst>
                            <p:childTnLst>
                              <p:par>
                                <p:cTn id="4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18960" y="404640"/>
            <a:ext cx="83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щая плоскость пересекает не только плоскость основания но и другие грани приз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8360" y="5446440"/>
            <a:ext cx="7381800" cy="862200"/>
            <a:chOff x="198360" y="5446440"/>
            <a:chExt cx="7381800" cy="862200"/>
          </a:xfrm>
        </p:grpSpPr>
        <p:sp>
          <p:nvSpPr>
            <p:cNvPr id="513" name="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039680" y="629928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444600" y="2346480"/>
            <a:ext cx="6350040" cy="4416120"/>
            <a:chOff x="444600" y="2346480"/>
            <a:chExt cx="6350040" cy="4416120"/>
          </a:xfrm>
        </p:grpSpPr>
        <p:sp>
          <p:nvSpPr>
            <p:cNvPr id="520" name=""/>
            <p:cNvSpPr/>
            <p:nvPr/>
          </p:nvSpPr>
          <p:spPr>
            <a:xfrm flipV="1">
              <a:off x="444600" y="5824440"/>
              <a:ext cx="133200" cy="90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028760" y="3219480"/>
              <a:ext cx="880920" cy="704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1852560" y="3174480"/>
              <a:ext cx="4942080" cy="31338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1041480" y="3619440"/>
              <a:ext cx="2882880" cy="1852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956200" y="2346480"/>
              <a:ext cx="82728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905360" y="3200400"/>
              <a:ext cx="14400" cy="9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000680" y="3924000"/>
              <a:ext cx="9093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571680" y="5456160"/>
              <a:ext cx="495000" cy="36360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49280" y="589932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1279440" y="6297480"/>
              <a:ext cx="590760" cy="46512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4086360" y="3846600"/>
              <a:ext cx="33120" cy="79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4146120" y="3776760"/>
              <a:ext cx="5868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4204800" y="3681360"/>
              <a:ext cx="103320" cy="295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276440" y="3618000"/>
              <a:ext cx="135000" cy="39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4343040" y="3548160"/>
              <a:ext cx="166680" cy="4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414680" y="3446640"/>
              <a:ext cx="192240" cy="58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4481640" y="3382920"/>
              <a:ext cx="21744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4539960" y="3281400"/>
              <a:ext cx="268200" cy="77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605480" y="3211560"/>
              <a:ext cx="287280" cy="86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4678200" y="3395520"/>
              <a:ext cx="236880" cy="68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743000" y="3579840"/>
              <a:ext cx="179640" cy="51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4827600" y="3840120"/>
              <a:ext cx="84240" cy="27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3914640" y="3025800"/>
              <a:ext cx="924120" cy="60336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4843440" y="2355480"/>
              <a:ext cx="1130400" cy="6778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52640" y="5448240"/>
              <a:ext cx="820440" cy="854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990960" y="3254400"/>
              <a:ext cx="1271520" cy="1498680"/>
              <a:chOff x="3990960" y="3254400"/>
              <a:chExt cx="1271520" cy="1498680"/>
            </a:xfrm>
          </p:grpSpPr>
          <p:sp>
            <p:nvSpPr>
              <p:cNvPr id="546" name=""/>
              <p:cNvSpPr/>
              <p:nvPr/>
            </p:nvSpPr>
            <p:spPr>
              <a:xfrm>
                <a:off x="3990960" y="3889440"/>
                <a:ext cx="344520" cy="863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860720" y="4156200"/>
                <a:ext cx="84240" cy="2095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930560" y="3254400"/>
                <a:ext cx="331920" cy="882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120168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ледом секущей плоскости на плоскост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BB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вляется прямая 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98840" y="55148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864400" y="549900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618160" y="599292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165480" y="217656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587840" y="219060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06800" y="258300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30800" y="4732200"/>
            <a:ext cx="369720" cy="98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267160" y="4124160"/>
            <a:ext cx="619200" cy="1609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940280" y="4327560"/>
            <a:ext cx="674640" cy="17985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02000" y="2236680"/>
            <a:ext cx="603360" cy="1670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556160" y="2239920"/>
            <a:ext cx="376200" cy="10144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997440" y="3254400"/>
            <a:ext cx="1271520" cy="1498680"/>
            <a:chOff x="3997440" y="3254400"/>
            <a:chExt cx="1271520" cy="1498680"/>
          </a:xfrm>
        </p:grpSpPr>
        <p:sp>
          <p:nvSpPr>
            <p:cNvPr id="569" name=""/>
            <p:cNvSpPr/>
            <p:nvPr/>
          </p:nvSpPr>
          <p:spPr>
            <a:xfrm>
              <a:off x="3997440" y="3889440"/>
              <a:ext cx="34452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867200" y="4156200"/>
              <a:ext cx="84240" cy="2095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37040" y="3254400"/>
              <a:ext cx="331920" cy="882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4286160" y="2657520"/>
            <a:ext cx="588960" cy="1512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1871640"/>
            <a:ext cx="9144000" cy="4514760"/>
          </a:xfrm>
          <a:prstGeom prst="rect">
            <a:avLst/>
          </a:pr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468360" y="2205000"/>
            <a:ext cx="6330960" cy="4542840"/>
            <a:chOff x="468360" y="2205000"/>
            <a:chExt cx="6330960" cy="4542840"/>
          </a:xfrm>
        </p:grpSpPr>
        <p:sp>
          <p:nvSpPr>
            <p:cNvPr id="575" name=""/>
            <p:cNvSpPr/>
            <p:nvPr/>
          </p:nvSpPr>
          <p:spPr>
            <a:xfrm>
              <a:off x="5987880" y="2224080"/>
              <a:ext cx="11160" cy="1206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468360" y="2205000"/>
              <a:ext cx="6330960" cy="4542840"/>
              <a:chOff x="468360" y="2205000"/>
              <a:chExt cx="6330960" cy="4542840"/>
            </a:xfrm>
          </p:grpSpPr>
          <p:grpSp>
            <p:nvGrpSpPr>
              <p:cNvPr id="577" name=""/>
              <p:cNvGrpSpPr/>
              <p:nvPr/>
            </p:nvGrpSpPr>
            <p:grpSpPr>
              <a:xfrm>
                <a:off x="468360" y="2205000"/>
                <a:ext cx="6330960" cy="4542840"/>
                <a:chOff x="468360" y="2205000"/>
                <a:chExt cx="6330960" cy="4542840"/>
              </a:xfrm>
            </p:grpSpPr>
            <p:sp>
              <p:nvSpPr>
                <p:cNvPr id="578" name=""/>
                <p:cNvSpPr/>
                <p:nvPr/>
              </p:nvSpPr>
              <p:spPr>
                <a:xfrm flipV="1">
                  <a:off x="1282680" y="3163320"/>
                  <a:ext cx="5516640" cy="3584520"/>
                </a:xfrm>
                <a:prstGeom prst="line">
                  <a:avLst/>
                </a:prstGeom>
                <a:ln w="255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758880" y="6373800"/>
                  <a:ext cx="191880" cy="2880"/>
                </a:xfrm>
                <a:prstGeom prst="line">
                  <a:avLst/>
                </a:prstGeom>
                <a:ln w="255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468360" y="2205000"/>
                  <a:ext cx="6320880" cy="4530600"/>
                  <a:chOff x="468360" y="2205000"/>
                  <a:chExt cx="6320880" cy="4530600"/>
                </a:xfrm>
              </p:grpSpPr>
              <p:sp>
                <p:nvSpPr>
                  <p:cNvPr id="581" name=""/>
                  <p:cNvSpPr/>
                  <p:nvPr/>
                </p:nvSpPr>
                <p:spPr>
                  <a:xfrm flipH="1" flipV="1">
                    <a:off x="945720" y="6386400"/>
                    <a:ext cx="336600" cy="34920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V="1">
                    <a:off x="744480" y="2329920"/>
                    <a:ext cx="5245200" cy="336060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 flipV="1">
                    <a:off x="5970240" y="2325240"/>
                    <a:ext cx="819000" cy="84276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V="1">
                    <a:off x="934920" y="2358720"/>
                    <a:ext cx="5064120" cy="4037040"/>
                  </a:xfrm>
                  <a:prstGeom prst="line">
                    <a:avLst/>
                  </a:prstGeom>
                  <a:ln w="255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787320" y="2205000"/>
                    <a:ext cx="5211720" cy="1584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759960" y="2205000"/>
                    <a:ext cx="17640" cy="416880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5970600" y="3690720"/>
                    <a:ext cx="17280" cy="270216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>
                    <a:off x="1863720" y="6386400"/>
                    <a:ext cx="4125960" cy="648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V="1">
                    <a:off x="468360" y="5692680"/>
                    <a:ext cx="291960" cy="21744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5989680" y="2376360"/>
                    <a:ext cx="7920" cy="130176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V="1">
                    <a:off x="958680" y="6382800"/>
                    <a:ext cx="916200" cy="324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 flipV="1">
                    <a:off x="747360" y="6195960"/>
                    <a:ext cx="182520" cy="17784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 flipV="1">
                    <a:off x="479160" y="5909760"/>
                    <a:ext cx="260280" cy="273240"/>
                  </a:xfrm>
                  <a:prstGeom prst="line">
                    <a:avLst/>
                  </a:prstGeom>
                  <a:ln w="255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4" name=""/>
              <p:cNvSpPr/>
              <p:nvPr/>
            </p:nvSpPr>
            <p:spPr>
              <a:xfrm>
                <a:off x="3228840" y="4479840"/>
                <a:ext cx="392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"/>
          <p:cNvSpPr/>
          <p:nvPr/>
        </p:nvSpPr>
        <p:spPr>
          <a:xfrm>
            <a:off x="0" y="197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ую, по которой секущая плоскость пересекает плоскость какой-либо грани многогранника, называют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ледом секущей плоскости на плоскости этой гра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78000" y="3668760"/>
            <a:ext cx="28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5573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 следом секущей плоскости на плоскости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С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вляется прямая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447840" y="2044800"/>
            <a:ext cx="6348240" cy="4708440"/>
            <a:chOff x="447840" y="2044800"/>
            <a:chExt cx="6348240" cy="4708440"/>
          </a:xfrm>
        </p:grpSpPr>
        <p:sp>
          <p:nvSpPr>
            <p:cNvPr id="599" name=""/>
            <p:cNvSpPr/>
            <p:nvPr/>
          </p:nvSpPr>
          <p:spPr>
            <a:xfrm>
              <a:off x="3652920" y="3807000"/>
              <a:ext cx="1536480" cy="39996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0" name=""/>
            <p:cNvGrpSpPr/>
            <p:nvPr/>
          </p:nvGrpSpPr>
          <p:grpSpPr>
            <a:xfrm>
              <a:off x="447840" y="2044800"/>
              <a:ext cx="6348240" cy="4708440"/>
              <a:chOff x="447840" y="2044800"/>
              <a:chExt cx="6348240" cy="4708440"/>
            </a:xfrm>
          </p:grpSpPr>
          <p:sp>
            <p:nvSpPr>
              <p:cNvPr id="601" name=""/>
              <p:cNvSpPr/>
              <p:nvPr/>
            </p:nvSpPr>
            <p:spPr>
              <a:xfrm flipV="1">
                <a:off x="457200" y="3790800"/>
                <a:ext cx="3211560" cy="2114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1278000" y="3174840"/>
                <a:ext cx="5518080" cy="357192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958000" y="2336760"/>
                <a:ext cx="838080" cy="8510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47840" y="5899320"/>
                <a:ext cx="830160" cy="85392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3056040" y="2044800"/>
                <a:ext cx="617400" cy="1752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683240" y="2830680"/>
                <a:ext cx="1234800" cy="34606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059280" y="2057400"/>
                <a:ext cx="1625400" cy="7682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278240" y="5505480"/>
                <a:ext cx="1654200" cy="7970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375080" y="4010040"/>
                <a:ext cx="3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4767120" y="2339640"/>
                <a:ext cx="1195560" cy="755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3683160" y="3071520"/>
                <a:ext cx="1109520" cy="716040"/>
              </a:xfrm>
              <a:prstGeom prst="line">
                <a:avLst/>
              </a:prstGeom>
              <a:ln w="1260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670200" y="3833640"/>
                <a:ext cx="395280" cy="1113120"/>
              </a:xfrm>
              <a:prstGeom prst="line">
                <a:avLst/>
              </a:prstGeom>
              <a:ln w="1260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060800" y="4944960"/>
                <a:ext cx="220680" cy="5698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4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7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96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00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728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3.69942E-006 L -3.33333E-006 -0.30336 E">
                                      <p:cBhvr>
                                        <p:cTn id="537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46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5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77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4" dur="77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6" dur="77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8" dur="77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200"/>
                            </p:stCondLst>
                            <p:childTnLst>
                              <p:par>
                                <p:cTn id="56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77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4" dur="77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6" dur="77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8" dur="77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400"/>
                            </p:stCondLst>
                            <p:childTnLst>
                              <p:par>
                                <p:cTn id="57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77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4" dur="77" fill="hold"/>
                                        <p:tgtEl>
                                          <p:spTgt spid="5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6" dur="77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8" dur="77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6600"/>
                            </p:stCondLst>
                            <p:childTnLst>
                              <p:par>
                                <p:cTn id="5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77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4" dur="77" fill="hold"/>
                                        <p:tgtEl>
                                          <p:spTgt spid="5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6" dur="77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8" dur="77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6800"/>
                            </p:stCondLst>
                            <p:childTnLst>
                              <p:par>
                                <p:cTn id="5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77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4" dur="77" fill="hold"/>
                                        <p:tgtEl>
                                          <p:spTgt spid="5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6" dur="77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8" dur="77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7000"/>
                            </p:stCondLst>
                            <p:childTnLst>
                              <p:par>
                                <p:cTn id="6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77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4" dur="77" fill="hold"/>
                                        <p:tgtEl>
                                          <p:spTgt spid="5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5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6" dur="77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7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8" dur="77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9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200"/>
                            </p:stCondLst>
                            <p:childTnLst>
                              <p:par>
                                <p:cTn id="6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9440"/>
                            </p:stCondLst>
                            <p:childTnLst>
                              <p:par>
                                <p:cTn id="6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144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29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8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4280"/>
                            </p:stCondLst>
                            <p:childTnLst>
                              <p:par>
                                <p:cTn id="6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628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18960" y="404640"/>
            <a:ext cx="831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кущая плоскость пересекает не только грани призмы но и ее реб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98360" y="5446440"/>
            <a:ext cx="7381800" cy="862200"/>
            <a:chOff x="198360" y="5446440"/>
            <a:chExt cx="7381800" cy="862200"/>
          </a:xfrm>
        </p:grpSpPr>
        <p:sp>
          <p:nvSpPr>
            <p:cNvPr id="617" name=""/>
            <p:cNvSpPr/>
            <p:nvPr/>
          </p:nvSpPr>
          <p:spPr>
            <a:xfrm>
              <a:off x="198360" y="5452920"/>
              <a:ext cx="438012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039680" y="6299280"/>
              <a:ext cx="6499440" cy="93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10960" y="5451480"/>
              <a:ext cx="85284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727680" y="545148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62520" y="5451480"/>
              <a:ext cx="963720" cy="144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4619520" y="5446440"/>
              <a:ext cx="1116000" cy="468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444600" y="2346480"/>
            <a:ext cx="6350040" cy="4416120"/>
            <a:chOff x="444600" y="2346480"/>
            <a:chExt cx="6350040" cy="4416120"/>
          </a:xfrm>
        </p:grpSpPr>
        <p:sp>
          <p:nvSpPr>
            <p:cNvPr id="624" name=""/>
            <p:cNvSpPr/>
            <p:nvPr/>
          </p:nvSpPr>
          <p:spPr>
            <a:xfrm flipV="1">
              <a:off x="444600" y="5824440"/>
              <a:ext cx="133200" cy="9072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4028760" y="3219480"/>
              <a:ext cx="880920" cy="7048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1852560" y="3174480"/>
              <a:ext cx="4942080" cy="313380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1041480" y="3619440"/>
              <a:ext cx="2882880" cy="18525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56200" y="2346480"/>
              <a:ext cx="827280" cy="8380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905360" y="3200400"/>
              <a:ext cx="14400" cy="97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4000680" y="3924000"/>
              <a:ext cx="909360" cy="228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571680" y="5456160"/>
              <a:ext cx="495000" cy="36360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49280" y="5899320"/>
              <a:ext cx="852480" cy="85716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1279440" y="6297480"/>
              <a:ext cx="590760" cy="46512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086360" y="3846600"/>
              <a:ext cx="33120" cy="79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146120" y="3776760"/>
              <a:ext cx="58680" cy="1746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4204800" y="3681360"/>
              <a:ext cx="103320" cy="295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4276440" y="3618000"/>
              <a:ext cx="135000" cy="396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4343040" y="3548160"/>
              <a:ext cx="166680" cy="4665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414680" y="3446640"/>
              <a:ext cx="192240" cy="580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4481640" y="3382920"/>
              <a:ext cx="217440" cy="66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4539960" y="3281400"/>
              <a:ext cx="268200" cy="777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605480" y="3211560"/>
              <a:ext cx="287280" cy="860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4678200" y="3395520"/>
              <a:ext cx="236880" cy="682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4743000" y="3579840"/>
              <a:ext cx="179640" cy="51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4827600" y="3840120"/>
              <a:ext cx="84240" cy="270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3914640" y="3025800"/>
              <a:ext cx="924120" cy="603360"/>
            </a:xfrm>
            <a:prstGeom prst="line">
              <a:avLst/>
            </a:prstGeom>
            <a:ln w="1908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4843440" y="2355480"/>
              <a:ext cx="1130400" cy="67788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052640" y="5448240"/>
              <a:ext cx="820440" cy="854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9" name=""/>
            <p:cNvGrpSpPr/>
            <p:nvPr/>
          </p:nvGrpSpPr>
          <p:grpSpPr>
            <a:xfrm>
              <a:off x="3990960" y="3254400"/>
              <a:ext cx="1271520" cy="1498680"/>
              <a:chOff x="3990960" y="3254400"/>
              <a:chExt cx="1271520" cy="1498680"/>
            </a:xfrm>
          </p:grpSpPr>
          <p:sp>
            <p:nvSpPr>
              <p:cNvPr id="650" name=""/>
              <p:cNvSpPr/>
              <p:nvPr/>
            </p:nvSpPr>
            <p:spPr>
              <a:xfrm>
                <a:off x="3990960" y="3889440"/>
                <a:ext cx="344520" cy="86364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60720" y="4156200"/>
                <a:ext cx="84240" cy="2095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930560" y="3254400"/>
                <a:ext cx="331920" cy="88272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3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120168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ледом секущей плоскости на прямой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вляется точ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398840" y="5514840"/>
            <a:ext cx="3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864400" y="549900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5618160" y="5992920"/>
            <a:ext cx="39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65480" y="217656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87840" y="219060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06800" y="2583000"/>
            <a:ext cx="392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381480" y="221148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4290840" y="2222280"/>
            <a:ext cx="26676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381480" y="2211480"/>
            <a:ext cx="1181160" cy="270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330800" y="4732200"/>
            <a:ext cx="369720" cy="989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4707000" y="5708520"/>
            <a:ext cx="914400" cy="446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616720" y="5719320"/>
            <a:ext cx="266400" cy="438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707000" y="5708520"/>
            <a:ext cx="1181160" cy="2700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267160" y="4124160"/>
            <a:ext cx="619200" cy="1609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940280" y="4327560"/>
            <a:ext cx="674640" cy="17985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402000" y="2236680"/>
            <a:ext cx="603360" cy="16700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556160" y="2239920"/>
            <a:ext cx="376200" cy="10144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3997440" y="3254400"/>
            <a:ext cx="1271520" cy="1498680"/>
            <a:chOff x="3997440" y="3254400"/>
            <a:chExt cx="1271520" cy="1498680"/>
          </a:xfrm>
        </p:grpSpPr>
        <p:sp>
          <p:nvSpPr>
            <p:cNvPr id="673" name=""/>
            <p:cNvSpPr/>
            <p:nvPr/>
          </p:nvSpPr>
          <p:spPr>
            <a:xfrm>
              <a:off x="3997440" y="3889440"/>
              <a:ext cx="344520" cy="8636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867200" y="4156200"/>
              <a:ext cx="84240" cy="2095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937040" y="3254400"/>
              <a:ext cx="331920" cy="8827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4286160" y="2657520"/>
            <a:ext cx="588960" cy="15127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1871640"/>
            <a:ext cx="9144000" cy="4514760"/>
          </a:xfrm>
          <a:prstGeom prst="rect">
            <a:avLst/>
          </a:prstGeom>
          <a:solidFill>
            <a:srgbClr val="3366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1971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чку, в которой секущая плоскость пересекает прямую, содержащую какое-нибудь ребро призмы, называют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следом секущей плоскости на этой прямой.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078000" y="3668760"/>
            <a:ext cx="287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пример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1557360"/>
            <a:ext cx="9144000" cy="4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 следом секущей плоскости на прямой СС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является точк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447840" y="2346120"/>
            <a:ext cx="6322680" cy="4395600"/>
            <a:chOff x="447840" y="2346120"/>
            <a:chExt cx="6322680" cy="4395600"/>
          </a:xfrm>
        </p:grpSpPr>
        <p:sp>
          <p:nvSpPr>
            <p:cNvPr id="682" name=""/>
            <p:cNvSpPr/>
            <p:nvPr/>
          </p:nvSpPr>
          <p:spPr>
            <a:xfrm flipV="1">
              <a:off x="447840" y="2360520"/>
              <a:ext cx="5495760" cy="35402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1258920" y="3173040"/>
              <a:ext cx="5511600" cy="35686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 flipV="1">
              <a:off x="5946840" y="2346120"/>
              <a:ext cx="807840" cy="82548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460080" y="5903640"/>
              <a:ext cx="817560" cy="83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3373200" y="2203560"/>
            <a:ext cx="1314360" cy="3500280"/>
            <a:chOff x="3373200" y="2203560"/>
            <a:chExt cx="1314360" cy="3500280"/>
          </a:xfrm>
        </p:grpSpPr>
        <p:sp>
          <p:nvSpPr>
            <p:cNvPr id="687" name=""/>
            <p:cNvSpPr/>
            <p:nvPr/>
          </p:nvSpPr>
          <p:spPr>
            <a:xfrm flipH="1" flipV="1">
              <a:off x="3373200" y="2203560"/>
              <a:ext cx="647640" cy="173016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flipV="1">
              <a:off x="4335120" y="4749840"/>
              <a:ext cx="352440" cy="954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 flipV="1">
              <a:off x="4025520" y="3939840"/>
              <a:ext cx="297000" cy="801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0" name=""/>
            <p:cNvGrpSpPr/>
            <p:nvPr/>
          </p:nvGrpSpPr>
          <p:grpSpPr>
            <a:xfrm>
              <a:off x="3992400" y="3652920"/>
              <a:ext cx="322560" cy="368280"/>
              <a:chOff x="3992400" y="3652920"/>
              <a:chExt cx="322560" cy="368280"/>
            </a:xfrm>
          </p:grpSpPr>
          <p:sp>
            <p:nvSpPr>
              <p:cNvPr id="691" name=""/>
              <p:cNvSpPr/>
              <p:nvPr/>
            </p:nvSpPr>
            <p:spPr>
              <a:xfrm>
                <a:off x="3992400" y="3914640"/>
                <a:ext cx="69840" cy="65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044960" y="3652920"/>
                <a:ext cx="27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4273200" y="2601720"/>
            <a:ext cx="1314720" cy="3500280"/>
            <a:chOff x="4273200" y="2601720"/>
            <a:chExt cx="1314720" cy="3500280"/>
          </a:xfrm>
        </p:grpSpPr>
        <p:sp>
          <p:nvSpPr>
            <p:cNvPr id="694" name=""/>
            <p:cNvSpPr/>
            <p:nvPr/>
          </p:nvSpPr>
          <p:spPr>
            <a:xfrm flipH="1" flipV="1">
              <a:off x="4273200" y="2601720"/>
              <a:ext cx="592200" cy="15570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4950000" y="4354200"/>
              <a:ext cx="637920" cy="174780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868640" y="4157280"/>
              <a:ext cx="74520" cy="20484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"/>
            <p:cNvGrpSpPr/>
            <p:nvPr/>
          </p:nvGrpSpPr>
          <p:grpSpPr>
            <a:xfrm>
              <a:off x="4826160" y="3860640"/>
              <a:ext cx="321840" cy="368280"/>
              <a:chOff x="4826160" y="3860640"/>
              <a:chExt cx="321840" cy="368280"/>
            </a:xfrm>
          </p:grpSpPr>
          <p:sp>
            <p:nvSpPr>
              <p:cNvPr id="698" name=""/>
              <p:cNvSpPr/>
              <p:nvPr/>
            </p:nvSpPr>
            <p:spPr>
              <a:xfrm>
                <a:off x="4826160" y="4122360"/>
                <a:ext cx="69480" cy="651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878360" y="3860640"/>
                <a:ext cx="269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28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70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path" presetID="6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3.33333E-006 3.69942E-006 L -3.33333E-006 -0.30336 E">
                                      <p:cBhvr>
                                        <p:cTn id="682" dur="1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000"/>
                            </p:stCondLst>
                            <p:childTnLst>
                              <p:par>
                                <p:cTn id="690" nodeType="after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6000"/>
                            </p:stCondLst>
                            <p:childTnLst>
                              <p:par>
                                <p:cTn id="6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" fill="hold"/>
                                        <p:tgtEl>
                                          <p:spTgt spid="6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6200"/>
                            </p:stCondLst>
                            <p:childTnLst>
                              <p:par>
                                <p:cTn id="7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77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9" dur="77" fill="hold"/>
                                        <p:tgtEl>
                                          <p:spTgt spid="6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0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1" dur="77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2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3" dur="77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4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6400"/>
                            </p:stCondLst>
                            <p:childTnLst>
                              <p:par>
                                <p:cTn id="7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77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9" dur="77" fill="hold"/>
                                        <p:tgtEl>
                                          <p:spTgt spid="6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0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1" dur="77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2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3" dur="77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4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600"/>
                            </p:stCondLst>
                            <p:childTnLst>
                              <p:par>
                                <p:cTn id="7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77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9" dur="77" fill="hold"/>
                                        <p:tgtEl>
                                          <p:spTgt spid="6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0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1" dur="77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2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3" dur="77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4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800"/>
                            </p:stCondLst>
                            <p:childTnLst>
                              <p:par>
                                <p:cTn id="7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77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9" dur="77" fill="hold"/>
                                        <p:tgtEl>
                                          <p:spTgt spid="6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0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1" dur="77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2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3" dur="77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4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7000"/>
                            </p:stCondLst>
                            <p:childTnLst>
                              <p:par>
                                <p:cTn id="7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77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9" dur="77" fill="hold"/>
                                        <p:tgtEl>
                                          <p:spTgt spid="6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0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1" dur="77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2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3" dur="77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4" dur="123" fill="hold">
                                          <p:stCondLst>
                                            <p:cond delay="77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200"/>
                            </p:stCondLst>
                            <p:childTnLst>
                              <p:par>
                                <p:cTn id="7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6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9160"/>
                            </p:stCondLst>
                            <p:childTnLst>
                              <p:par>
                                <p:cTn id="7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4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116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1316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78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000"/>
                            </p:stCondLst>
                            <p:childTnLst>
                              <p:par>
                                <p:cTn id="7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400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6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14440" y="187128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троим сечение призмы через данную точку и след секущей плоск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Построить сечение призмы, проходящее через данную точку и след секущей плоскости если точка находится на одной из боковых гра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2687760" y="898560"/>
            <a:ext cx="340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443400" y="292860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33680" y="379080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472000" y="291456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490920" y="471924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2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500"/>
                            </p:stCondLst>
                            <p:childTnLst>
                              <p:par>
                                <p:cTn id="809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2" dur="8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80"/>
                                        <p:tgtEl>
                                          <p:spTgt spid="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4940"/>
                            </p:stCondLst>
                            <p:childTnLst>
                              <p:par>
                                <p:cTn id="8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940"/>
                            </p:stCondLst>
                            <p:childTnLst>
                              <p:par>
                                <p:cTn id="82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0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6440"/>
                            </p:stCondLst>
                            <p:childTnLst>
                              <p:par>
                                <p:cTn id="83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6960"/>
                            </p:stCondLst>
                            <p:childTnLst>
                              <p:par>
                                <p:cTn id="84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4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8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7460"/>
                            </p:stCondLst>
                            <p:childTnLst>
                              <p:par>
                                <p:cTn id="8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960"/>
                            </p:stCondLst>
                            <p:childTnLst>
                              <p:par>
                                <p:cTn id="86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846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43280" y="460836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роим при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351400" y="2355840"/>
            <a:ext cx="154080" cy="1459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3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500"/>
                            </p:stCondLst>
                            <p:childTnLst>
                              <p:par>
                                <p:cTn id="879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3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3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3100"/>
                            </p:stCondLst>
                            <p:childTnLst>
                              <p:par>
                                <p:cTn id="8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3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4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3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7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3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3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300"/>
                            </p:stCondLst>
                            <p:childTnLst>
                              <p:par>
                                <p:cTn id="9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3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fill="hold">
                            <p:stCondLst>
                              <p:cond delay="4600"/>
                            </p:stCondLst>
                            <p:childTnLst>
                              <p:par>
                                <p:cTn id="9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9" dur="3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4900"/>
                            </p:stCondLst>
                            <p:childTnLst>
                              <p:par>
                                <p:cTn id="9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3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5200"/>
                            </p:stCondLst>
                            <p:childTnLst>
                              <p:par>
                                <p:cTn id="9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3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3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800"/>
                            </p:stCondLst>
                            <p:childTnLst>
                              <p:par>
                                <p:cTn id="9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3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6100"/>
                            </p:stCondLst>
                            <p:childTnLst>
                              <p:par>
                                <p:cTn id="9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9" dur="3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6400"/>
                            </p:stCondLst>
                            <p:childTnLst>
                              <p:par>
                                <p:cTn id="9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3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6700"/>
                            </p:stCondLst>
                            <p:childTnLst>
                              <p:par>
                                <p:cTn id="9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7" dur="3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7000"/>
                            </p:stCondLst>
                            <p:childTnLst>
                              <p:par>
                                <p:cTn id="9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0" y="1582560"/>
            <a:ext cx="5686560" cy="492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0" y="442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ведем след секущей плоскости        на плоскости основания 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342040" y="2365200"/>
            <a:ext cx="16344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7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15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6000"/>
                            </p:stCondLst>
                            <p:childTnLst>
                              <p:par>
                                <p:cTn id="9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СТРОЕНИЕ СЕЧЕНИЙ ПРИЗ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285920" y="3732120"/>
            <a:ext cx="2585160" cy="2589120"/>
            <a:chOff x="1285920" y="3732120"/>
            <a:chExt cx="2585160" cy="2589120"/>
          </a:xfrm>
        </p:grpSpPr>
        <p:sp>
          <p:nvSpPr>
            <p:cNvPr id="53" name=""/>
            <p:cNvSpPr/>
            <p:nvPr/>
          </p:nvSpPr>
          <p:spPr>
            <a:xfrm flipV="1">
              <a:off x="1285920" y="3741120"/>
              <a:ext cx="1617840" cy="1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16880" y="3756960"/>
              <a:ext cx="1378440" cy="394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695320" y="3732120"/>
              <a:ext cx="208080" cy="431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94200" y="3756960"/>
              <a:ext cx="967320" cy="214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709720" y="4163760"/>
              <a:ext cx="967320" cy="214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03760" y="3756960"/>
              <a:ext cx="967320" cy="2145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244960" y="5898960"/>
              <a:ext cx="1617840" cy="122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275920" y="5914080"/>
              <a:ext cx="1378440" cy="394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3654360" y="5889960"/>
              <a:ext cx="208080" cy="4312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2271600" y="495360"/>
            <a:ext cx="3535200" cy="1142640"/>
            <a:chOff x="2271600" y="495360"/>
            <a:chExt cx="3535200" cy="1142640"/>
          </a:xfrm>
        </p:grpSpPr>
        <p:sp>
          <p:nvSpPr>
            <p:cNvPr id="63" name=""/>
            <p:cNvSpPr/>
            <p:nvPr/>
          </p:nvSpPr>
          <p:spPr>
            <a:xfrm flipV="1">
              <a:off x="2283120" y="507600"/>
              <a:ext cx="1907640" cy="325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887640" y="921960"/>
              <a:ext cx="1907640" cy="32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283120" y="834120"/>
              <a:ext cx="163404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2760" y="495360"/>
              <a:ext cx="163404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277360" y="85932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893400" y="126108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771520" y="934560"/>
              <a:ext cx="5760" cy="376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190760" y="507960"/>
              <a:ext cx="5760" cy="3762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2271600" y="884160"/>
              <a:ext cx="1906920" cy="3265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875760" y="1298520"/>
              <a:ext cx="1906920" cy="3265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271600" y="1211040"/>
              <a:ext cx="1634040" cy="426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161240" y="871920"/>
              <a:ext cx="1634040" cy="42660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651720" y="3187800"/>
            <a:ext cx="1825920" cy="2964600"/>
            <a:chOff x="6651720" y="3187800"/>
            <a:chExt cx="1825920" cy="2964600"/>
          </a:xfrm>
        </p:grpSpPr>
        <p:sp>
          <p:nvSpPr>
            <p:cNvPr id="76" name=""/>
            <p:cNvSpPr/>
            <p:nvPr/>
          </p:nvSpPr>
          <p:spPr>
            <a:xfrm flipV="1">
              <a:off x="6651720" y="5727960"/>
              <a:ext cx="734760" cy="202320"/>
            </a:xfrm>
            <a:prstGeom prst="line">
              <a:avLst/>
            </a:prstGeom>
            <a:ln w="1260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6672240" y="5928480"/>
              <a:ext cx="336240" cy="186120"/>
            </a:xfrm>
            <a:prstGeom prst="line">
              <a:avLst/>
            </a:prstGeom>
            <a:ln w="255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683040" y="3187800"/>
              <a:ext cx="1794600" cy="2964600"/>
              <a:chOff x="6683040" y="3187800"/>
              <a:chExt cx="1794600" cy="2964600"/>
            </a:xfrm>
          </p:grpSpPr>
          <p:sp>
            <p:nvSpPr>
              <p:cNvPr id="79" name=""/>
              <p:cNvSpPr/>
              <p:nvPr/>
            </p:nvSpPr>
            <p:spPr>
              <a:xfrm flipV="1">
                <a:off x="6997680" y="3193560"/>
                <a:ext cx="734760" cy="2023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11200" y="3187800"/>
                <a:ext cx="766440" cy="26208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flipV="1">
                <a:off x="7018200" y="3393720"/>
                <a:ext cx="335880" cy="1861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flipV="1">
                <a:off x="7344000" y="3578040"/>
                <a:ext cx="786960" cy="338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8120160" y="3444120"/>
                <a:ext cx="356760" cy="1580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>
                <a:off x="6683040" y="3395880"/>
                <a:ext cx="335520" cy="25401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364880" y="5721480"/>
                <a:ext cx="766440" cy="262440"/>
              </a:xfrm>
              <a:prstGeom prst="line">
                <a:avLst/>
              </a:prstGeom>
              <a:ln w="1260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6997680" y="6112440"/>
                <a:ext cx="786960" cy="338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7773840" y="5978520"/>
                <a:ext cx="356760" cy="15804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7008480" y="3588120"/>
                <a:ext cx="335520" cy="254052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7785000" y="3612240"/>
                <a:ext cx="335520" cy="25401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8131320" y="3452400"/>
                <a:ext cx="335520" cy="2540160"/>
              </a:xfrm>
              <a:prstGeom prst="line">
                <a:avLst/>
              </a:prstGeom>
              <a:ln w="255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7386120" y="3203640"/>
                <a:ext cx="335520" cy="2540160"/>
              </a:xfrm>
              <a:prstGeom prst="line">
                <a:avLst/>
              </a:prstGeom>
              <a:ln w="12600">
                <a:solidFill>
                  <a:srgbClr val="80008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>
            <a:hlinkClick r:id="rId1"/>
          </p:cNvPr>
          <p:cNvSpPr/>
          <p:nvPr/>
        </p:nvSpPr>
        <p:spPr>
          <a:xfrm>
            <a:off x="3419640" y="653400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8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4981680" y="1830240"/>
            <a:ext cx="115920" cy="108756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1582560"/>
            <a:ext cx="5686560" cy="492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0" y="444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сть точка А принадлежащая сечению находится на боковой гра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762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342040" y="2365200"/>
            <a:ext cx="16344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80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51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77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66" dur="770" fill="hold"/>
                                        <p:tgtEl>
                                          <p:spTgt spid="7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8" dur="77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0" dur="77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65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0" y="1582560"/>
            <a:ext cx="5686560" cy="492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4051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цесс построения сечения призмы начинается следующим образ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44226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начала строится отрезок, по которому сечение призмы пересекает грань, на которой находится данная точк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785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5332320" y="2355840"/>
            <a:ext cx="173160" cy="1459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5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path" presetID="64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-3.90018E-006 L 0.00538 -0.59149 E">
                                      <p:cBhvr>
                                        <p:cTn id="988" dur="2000" fill="hold"/>
                                        <p:tgtEl>
                                          <p:spTgt spid="7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6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9000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807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5342040" y="2346480"/>
            <a:ext cx="163440" cy="14684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799920" y="746280"/>
            <a:ext cx="6380280" cy="3254400"/>
            <a:chOff x="799920" y="746280"/>
            <a:chExt cx="6380280" cy="3254400"/>
          </a:xfrm>
        </p:grpSpPr>
        <p:sp>
          <p:nvSpPr>
            <p:cNvPr id="825" name=""/>
            <p:cNvSpPr/>
            <p:nvPr/>
          </p:nvSpPr>
          <p:spPr>
            <a:xfrm flipV="1">
              <a:off x="841320" y="768240"/>
              <a:ext cx="6319800" cy="99720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804960" y="3597120"/>
              <a:ext cx="2617560" cy="379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134120" y="746280"/>
              <a:ext cx="46080" cy="22939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99920" y="1755720"/>
              <a:ext cx="45720" cy="22449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465360" y="3263760"/>
              <a:ext cx="2156040" cy="33336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5651640" y="3017520"/>
              <a:ext cx="1485720" cy="23508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839880" y="2314440"/>
            <a:ext cx="1211040" cy="1057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93560" y="41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ямую, по которой плоскость данной г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0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2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3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8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3120"/>
                            </p:stCondLst>
                            <p:childTnLst>
                              <p:par>
                                <p:cTn id="10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8" dur="3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22" presetSubtype="4">
                                  <p:stCondLst>
                                    <p:cond delay="228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10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22" presetSubtype="4">
                                  <p:stCondLst>
                                    <p:cond delay="228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6120"/>
                            </p:stCondLst>
                            <p:childTnLst>
                              <p:par>
                                <p:cTn id="10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6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837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332320" y="2365200"/>
            <a:ext cx="17316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1219320" y="2631960"/>
            <a:ext cx="5921280" cy="1282320"/>
            <a:chOff x="1219320" y="2631960"/>
            <a:chExt cx="5921280" cy="1282320"/>
          </a:xfrm>
        </p:grpSpPr>
        <p:sp>
          <p:nvSpPr>
            <p:cNvPr id="860" name=""/>
            <p:cNvSpPr/>
            <p:nvPr/>
          </p:nvSpPr>
          <p:spPr>
            <a:xfrm flipV="1">
              <a:off x="5641920" y="303192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1219320" y="360144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129440" y="263196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"/>
          <p:cNvSpPr/>
          <p:nvPr/>
        </p:nvSpPr>
        <p:spPr>
          <a:xfrm>
            <a:off x="0" y="1603440"/>
            <a:ext cx="808200" cy="6890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866" name="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867" name="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869" name="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870" name="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7" name="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9" name="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80" name="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"/>
          <p:cNvSpPr/>
          <p:nvPr/>
        </p:nvSpPr>
        <p:spPr>
          <a:xfrm flipV="1">
            <a:off x="853920" y="2611080"/>
            <a:ext cx="6320160" cy="917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469800" y="464508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екает плоскость 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92120" y="41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ямую, по которой плоскость данной г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4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5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6" dur="8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2160"/>
                            </p:stCondLst>
                            <p:childTnLst>
                              <p:par>
                                <p:cTn id="10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0" dur="3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22" presetSubtype="2">
                                  <p:stCondLst>
                                    <p:cond delay="54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032" dur="22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21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16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7160"/>
                            </p:stCondLst>
                            <p:childTnLst>
                              <p:par>
                                <p:cTn id="103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766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8160"/>
                            </p:stCondLst>
                            <p:childTnLst>
                              <p:par>
                                <p:cTn id="1044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8660"/>
                            </p:stCondLst>
                            <p:childTnLst>
                              <p:par>
                                <p:cTn id="10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9160"/>
                            </p:stCondLst>
                            <p:childTnLst>
                              <p:par>
                                <p:cTn id="105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660"/>
                            </p:stCondLst>
                            <p:childTnLst>
                              <p:par>
                                <p:cTn id="10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889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492120" y="417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этого построим прямую, по которой плоскость данной гр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469800" y="464508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секает плоскость осн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219320" y="2627280"/>
            <a:ext cx="5921280" cy="1282320"/>
            <a:chOff x="1219320" y="2627280"/>
            <a:chExt cx="5921280" cy="1282320"/>
          </a:xfrm>
        </p:grpSpPr>
        <p:sp>
          <p:nvSpPr>
            <p:cNvPr id="911" name=""/>
            <p:cNvSpPr/>
            <p:nvPr/>
          </p:nvSpPr>
          <p:spPr>
            <a:xfrm flipV="1">
              <a:off x="5641920" y="302724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1219320" y="359676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>
              <a:off x="7129440" y="262728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"/>
          <p:cNvGrpSpPr/>
          <p:nvPr/>
        </p:nvGrpSpPr>
        <p:grpSpPr>
          <a:xfrm>
            <a:off x="539640" y="2309760"/>
            <a:ext cx="8184960" cy="2714760"/>
            <a:chOff x="539640" y="2309760"/>
            <a:chExt cx="8184960" cy="2714760"/>
          </a:xfrm>
        </p:grpSpPr>
        <p:grpSp>
          <p:nvGrpSpPr>
            <p:cNvPr id="917" name=""/>
            <p:cNvGrpSpPr/>
            <p:nvPr/>
          </p:nvGrpSpPr>
          <p:grpSpPr>
            <a:xfrm>
              <a:off x="539640" y="2309760"/>
              <a:ext cx="8184960" cy="2714760"/>
              <a:chOff x="539640" y="2309760"/>
              <a:chExt cx="8184960" cy="2714760"/>
            </a:xfrm>
          </p:grpSpPr>
          <p:sp>
            <p:nvSpPr>
              <p:cNvPr id="918" name=""/>
              <p:cNvSpPr/>
              <p:nvPr/>
            </p:nvSpPr>
            <p:spPr>
              <a:xfrm flipV="1">
                <a:off x="81576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539640" y="2309760"/>
                <a:ext cx="8184960" cy="2714760"/>
                <a:chOff x="539640" y="2309760"/>
                <a:chExt cx="8184960" cy="2714760"/>
              </a:xfrm>
            </p:grpSpPr>
            <p:grpSp>
              <p:nvGrpSpPr>
                <p:cNvPr id="920" name=""/>
                <p:cNvGrpSpPr/>
                <p:nvPr/>
              </p:nvGrpSpPr>
              <p:grpSpPr>
                <a:xfrm>
                  <a:off x="1245960" y="2611440"/>
                  <a:ext cx="5884560" cy="1302840"/>
                  <a:chOff x="1245960" y="2611440"/>
                  <a:chExt cx="5884560" cy="1302840"/>
                </a:xfrm>
              </p:grpSpPr>
              <p:sp>
                <p:nvSpPr>
                  <p:cNvPr id="921" name=""/>
                  <p:cNvSpPr/>
                  <p:nvPr/>
                </p:nvSpPr>
                <p:spPr>
                  <a:xfrm flipV="1">
                    <a:off x="124596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V="1">
                    <a:off x="563040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 flipH="1">
                    <a:off x="712260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4" name=""/>
                <p:cNvGrpSpPr/>
                <p:nvPr/>
              </p:nvGrpSpPr>
              <p:grpSpPr>
                <a:xfrm>
                  <a:off x="539640" y="2309760"/>
                  <a:ext cx="8184960" cy="2714760"/>
                  <a:chOff x="539640" y="2309760"/>
                  <a:chExt cx="8184960" cy="271476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53964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 flipV="1">
                    <a:off x="79848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 flipV="1">
                    <a:off x="248112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712116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680688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 flipV="1">
                    <a:off x="55080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31" name=""/>
            <p:cNvSpPr/>
            <p:nvPr/>
          </p:nvSpPr>
          <p:spPr>
            <a:xfrm flipV="1">
              <a:off x="85392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573084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3" name="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935" name="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617400" y="49165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рямая пересекает след секущей плоскости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351400" y="2374920"/>
            <a:ext cx="15408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fill="hold">
                      <p:stCondLst>
                        <p:cond delay="0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06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063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0" nodeType="after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77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3" dur="770" fill="hold"/>
                                        <p:tgtEl>
                                          <p:spTgt spid="9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5" dur="77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77" dur="77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944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228680" y="2627280"/>
            <a:ext cx="5921280" cy="1282320"/>
            <a:chOff x="1228680" y="2627280"/>
            <a:chExt cx="5921280" cy="1282320"/>
          </a:xfrm>
        </p:grpSpPr>
        <p:sp>
          <p:nvSpPr>
            <p:cNvPr id="964" name=""/>
            <p:cNvSpPr/>
            <p:nvPr/>
          </p:nvSpPr>
          <p:spPr>
            <a:xfrm flipV="1">
              <a:off x="5651280" y="302724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1228680" y="359676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138800" y="262728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71400" y="4941720"/>
            <a:ext cx="813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 прямая пересекает след секущей плоскости в точ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971" name="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972" name="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3" name="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8" name="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979" name="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4" name="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85" name="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7" name=""/>
          <p:cNvGrpSpPr/>
          <p:nvPr/>
        </p:nvGrpSpPr>
        <p:grpSpPr>
          <a:xfrm>
            <a:off x="1200240" y="1155240"/>
            <a:ext cx="5019480" cy="2664360"/>
            <a:chOff x="1200240" y="1155240"/>
            <a:chExt cx="5019480" cy="2664360"/>
          </a:xfrm>
        </p:grpSpPr>
        <p:sp>
          <p:nvSpPr>
            <p:cNvPr id="988" name=""/>
            <p:cNvSpPr/>
            <p:nvPr/>
          </p:nvSpPr>
          <p:spPr>
            <a:xfrm flipV="1">
              <a:off x="1200240" y="1179360"/>
              <a:ext cx="4967280" cy="264024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2038320" y="2688840"/>
              <a:ext cx="1305000" cy="6793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5600880" y="1155240"/>
              <a:ext cx="618840" cy="327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993" name="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617400" y="4916520"/>
            <a:ext cx="81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прямую через точку А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351400" y="2365200"/>
            <a:ext cx="154080" cy="144972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0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08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500"/>
                            </p:stCondLst>
                            <p:childTnLst>
                              <p:par>
                                <p:cTn id="10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4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6" dur="3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1002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4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841320" y="768240"/>
            <a:ext cx="6319800" cy="9907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804960" y="3921120"/>
            <a:ext cx="425520" cy="5544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7134120" y="746280"/>
            <a:ext cx="46080" cy="190332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>
            <a:off x="799920" y="1755720"/>
            <a:ext cx="45720" cy="2244960"/>
          </a:xfrm>
          <a:prstGeom prst="line">
            <a:avLst/>
          </a:prstGeom>
          <a:ln w="255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465360" y="3263760"/>
            <a:ext cx="2156040" cy="333360"/>
          </a:xfrm>
          <a:prstGeom prst="line">
            <a:avLst/>
          </a:prstGeom>
          <a:ln w="1260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1219320" y="2637000"/>
            <a:ext cx="5921280" cy="1282320"/>
            <a:chOff x="1219320" y="2637000"/>
            <a:chExt cx="5921280" cy="1282320"/>
          </a:xfrm>
        </p:grpSpPr>
        <p:sp>
          <p:nvSpPr>
            <p:cNvPr id="1021" name=""/>
            <p:cNvSpPr/>
            <p:nvPr/>
          </p:nvSpPr>
          <p:spPr>
            <a:xfrm flipV="1">
              <a:off x="5641920" y="3036960"/>
              <a:ext cx="1498680" cy="234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1219320" y="3606480"/>
              <a:ext cx="2208240" cy="3128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7129440" y="2637000"/>
              <a:ext cx="7920" cy="3981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"/>
          <p:cNvSpPr/>
          <p:nvPr/>
        </p:nvSpPr>
        <p:spPr>
          <a:xfrm>
            <a:off x="0" y="1603440"/>
            <a:ext cx="871560" cy="739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806400" y="2303640"/>
            <a:ext cx="1211400" cy="105696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141800" y="1485720"/>
            <a:ext cx="1469880" cy="774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1028" name="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1029" name="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0" name="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1031" name="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35" name="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1036" name="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042" name="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1200240" y="1155240"/>
            <a:ext cx="5019480" cy="2664360"/>
            <a:chOff x="1200240" y="1155240"/>
            <a:chExt cx="5019480" cy="2664360"/>
          </a:xfrm>
        </p:grpSpPr>
        <p:sp>
          <p:nvSpPr>
            <p:cNvPr id="1045" name=""/>
            <p:cNvSpPr/>
            <p:nvPr/>
          </p:nvSpPr>
          <p:spPr>
            <a:xfrm flipV="1">
              <a:off x="1200240" y="1179360"/>
              <a:ext cx="4967280" cy="264024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V="1">
              <a:off x="2038320" y="2688840"/>
              <a:ext cx="1305000" cy="6793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5600880" y="1155240"/>
              <a:ext cx="618840" cy="327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800520" y="1952640"/>
            <a:ext cx="380880" cy="368280"/>
            <a:chOff x="3800520" y="1952640"/>
            <a:chExt cx="380880" cy="368280"/>
          </a:xfrm>
        </p:grpSpPr>
        <p:sp>
          <p:nvSpPr>
            <p:cNvPr id="1049" name=""/>
            <p:cNvSpPr/>
            <p:nvPr/>
          </p:nvSpPr>
          <p:spPr>
            <a:xfrm>
              <a:off x="3800520" y="195264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83120" y="2200320"/>
              <a:ext cx="90360" cy="871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5535720" y="1143000"/>
            <a:ext cx="569880" cy="398520"/>
            <a:chOff x="5535720" y="1143000"/>
            <a:chExt cx="569880" cy="398520"/>
          </a:xfrm>
        </p:grpSpPr>
        <p:sp>
          <p:nvSpPr>
            <p:cNvPr id="1052" name=""/>
            <p:cNvSpPr/>
            <p:nvPr/>
          </p:nvSpPr>
          <p:spPr>
            <a:xfrm>
              <a:off x="5553000" y="1143000"/>
              <a:ext cx="55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535720" y="1454040"/>
              <a:ext cx="90360" cy="874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2014560" y="3338640"/>
            <a:ext cx="3672000" cy="3173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1056" name="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8" name=""/>
          <p:cNvSpPr/>
          <p:nvPr/>
        </p:nvSpPr>
        <p:spPr>
          <a:xfrm>
            <a:off x="0" y="47181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ВС прямой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рассматриваемой грани и есть пересечение этой грани с секуще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17400" y="4916520"/>
            <a:ext cx="81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м прямую через точку А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342040" y="2355840"/>
            <a:ext cx="163440" cy="1459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10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2" nodeType="afterEffect" fill="hold" presetClass="entr" presetID="5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10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1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77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5" dur="770" fill="hold"/>
                                        <p:tgtEl>
                                          <p:spTgt spid="10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7" dur="77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9" dur="77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3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 flipV="1">
            <a:off x="4079880" y="1371240"/>
            <a:ext cx="1485720" cy="220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067280" y="1628640"/>
            <a:ext cx="144360" cy="144000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5560920" y="1393920"/>
            <a:ext cx="144720" cy="143964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4241880" y="2828520"/>
            <a:ext cx="1485720" cy="2206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500440" y="2827440"/>
            <a:ext cx="21564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V="1">
            <a:off x="3492360" y="3047760"/>
            <a:ext cx="763560" cy="973080"/>
          </a:xfrm>
          <a:prstGeom prst="line">
            <a:avLst/>
          </a:prstGeom>
          <a:ln w="25560">
            <a:solidFill>
              <a:srgbClr val="00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3481560" y="402120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 flipV="1">
            <a:off x="4830840" y="383040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0" y="1582560"/>
            <a:ext cx="5686560" cy="49294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825480" y="2631600"/>
            <a:ext cx="6330960" cy="90180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 flipV="1">
            <a:off x="1200240" y="1179360"/>
            <a:ext cx="4967280" cy="264024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V="1">
            <a:off x="4141800" y="1485720"/>
            <a:ext cx="1469880" cy="774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V="1">
            <a:off x="3481560" y="2234880"/>
            <a:ext cx="644400" cy="153684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1936800" y="3832200"/>
            <a:ext cx="4611600" cy="560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638440" y="3878280"/>
            <a:ext cx="90360" cy="87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 flipV="1">
            <a:off x="2063880" y="3262320"/>
            <a:ext cx="4484520" cy="7603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443400" y="3568680"/>
            <a:ext cx="1317600" cy="216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2851200" y="3351240"/>
            <a:ext cx="3608280" cy="1827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3616200" y="4716360"/>
            <a:ext cx="9072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3232080" y="2461680"/>
            <a:ext cx="2541600" cy="27925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4764240" y="2857320"/>
            <a:ext cx="657000" cy="711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437080" y="1510920"/>
            <a:ext cx="149400" cy="132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3483000" y="1638000"/>
            <a:ext cx="2077920" cy="2128680"/>
            <a:chOff x="3483000" y="1638000"/>
            <a:chExt cx="2077920" cy="2128680"/>
          </a:xfrm>
        </p:grpSpPr>
        <p:sp>
          <p:nvSpPr>
            <p:cNvPr id="1089" name=""/>
            <p:cNvSpPr/>
            <p:nvPr/>
          </p:nvSpPr>
          <p:spPr>
            <a:xfrm flipV="1">
              <a:off x="4933800" y="1638000"/>
              <a:ext cx="627120" cy="2062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4537080" y="1731960"/>
              <a:ext cx="1006560" cy="325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4124160" y="1802880"/>
              <a:ext cx="1414800" cy="4590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4098960" y="1879200"/>
              <a:ext cx="1434960" cy="460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4029120" y="1952280"/>
              <a:ext cx="1495440" cy="485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90960" y="2028600"/>
              <a:ext cx="1528920" cy="4935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3971880" y="2104920"/>
              <a:ext cx="1538280" cy="4953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3946680" y="2173320"/>
              <a:ext cx="1558800" cy="5126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889440" y="2244600"/>
              <a:ext cx="1606320" cy="5256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857760" y="2329920"/>
              <a:ext cx="1619280" cy="5302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3819600" y="2403000"/>
              <a:ext cx="1647720" cy="5367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3800520" y="2464920"/>
              <a:ext cx="1681200" cy="5461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V="1">
              <a:off x="3749760" y="2547720"/>
              <a:ext cx="1712880" cy="555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V="1">
              <a:off x="3718080" y="2619000"/>
              <a:ext cx="1739880" cy="5684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3686040" y="2704680"/>
              <a:ext cx="1752840" cy="56052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3641760" y="2773440"/>
              <a:ext cx="1806480" cy="5904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3603600" y="2854080"/>
              <a:ext cx="1811520" cy="58716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3591000" y="2949120"/>
              <a:ext cx="1733400" cy="5698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V="1">
              <a:off x="3533760" y="3055680"/>
              <a:ext cx="1695600" cy="555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V="1">
              <a:off x="3514680" y="3165120"/>
              <a:ext cx="1619280" cy="5238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3483000" y="3265200"/>
              <a:ext cx="1550880" cy="50148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3876840" y="3357720"/>
              <a:ext cx="1085760" cy="34920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295880" y="3467160"/>
              <a:ext cx="557280" cy="177840"/>
            </a:xfrm>
            <a:prstGeom prst="line">
              <a:avLst/>
            </a:prstGeom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4675320" y="273672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342040" y="2374920"/>
            <a:ext cx="16344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3348000" y="2565360"/>
            <a:ext cx="144360" cy="14400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319560" y="2563920"/>
            <a:ext cx="1357200" cy="16020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4668840" y="2373120"/>
            <a:ext cx="671400" cy="3538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5338800" y="1370160"/>
            <a:ext cx="216000" cy="10126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3330720" y="1590480"/>
            <a:ext cx="763560" cy="973080"/>
          </a:xfrm>
          <a:prstGeom prst="line">
            <a:avLst/>
          </a:prstGeom>
          <a:ln w="507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800600" y="1476360"/>
            <a:ext cx="476280" cy="370080"/>
            <a:chOff x="4800600" y="1476360"/>
            <a:chExt cx="476280" cy="370080"/>
          </a:xfrm>
        </p:grpSpPr>
        <p:sp>
          <p:nvSpPr>
            <p:cNvPr id="1120" name=""/>
            <p:cNvSpPr/>
            <p:nvPr/>
          </p:nvSpPr>
          <p:spPr>
            <a:xfrm>
              <a:off x="4930920" y="175896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800600" y="147636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2" name=""/>
          <p:cNvSpPr/>
          <p:nvPr/>
        </p:nvSpPr>
        <p:spPr>
          <a:xfrm>
            <a:off x="0" y="437184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цы отрезка ВС принадлежат и соседним граням. Поэтому описанным способом можно построить пересечение и остальных  граней с нашей секуще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1895400" y="3019320"/>
            <a:ext cx="371520" cy="387360"/>
            <a:chOff x="1895400" y="3019320"/>
            <a:chExt cx="371520" cy="387360"/>
          </a:xfrm>
        </p:grpSpPr>
        <p:sp>
          <p:nvSpPr>
            <p:cNvPr id="1124" name=""/>
            <p:cNvSpPr/>
            <p:nvPr/>
          </p:nvSpPr>
          <p:spPr>
            <a:xfrm>
              <a:off x="2003400" y="3319560"/>
              <a:ext cx="90360" cy="8712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895400" y="3019320"/>
              <a:ext cx="371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"/>
          <p:cNvSpPr/>
          <p:nvPr/>
        </p:nvSpPr>
        <p:spPr>
          <a:xfrm>
            <a:off x="0" y="50148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резок ВС прямой 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рассматриваемой грани и есть пересечение этой грани с секущей плос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549360" y="2309760"/>
            <a:ext cx="8184960" cy="2714760"/>
            <a:chOff x="549360" y="2309760"/>
            <a:chExt cx="8184960" cy="2714760"/>
          </a:xfrm>
        </p:grpSpPr>
        <p:grpSp>
          <p:nvGrpSpPr>
            <p:cNvPr id="1128" name=""/>
            <p:cNvGrpSpPr/>
            <p:nvPr/>
          </p:nvGrpSpPr>
          <p:grpSpPr>
            <a:xfrm>
              <a:off x="549360" y="2309760"/>
              <a:ext cx="8184960" cy="2714760"/>
              <a:chOff x="549360" y="2309760"/>
              <a:chExt cx="8184960" cy="2714760"/>
            </a:xfrm>
          </p:grpSpPr>
          <p:sp>
            <p:nvSpPr>
              <p:cNvPr id="1129" name=""/>
              <p:cNvSpPr/>
              <p:nvPr/>
            </p:nvSpPr>
            <p:spPr>
              <a:xfrm flipV="1">
                <a:off x="825480" y="2631600"/>
                <a:ext cx="6330960" cy="901800"/>
              </a:xfrm>
              <a:prstGeom prst="line">
                <a:avLst/>
              </a:prstGeom>
              <a:ln w="12600">
                <a:solidFill>
                  <a:srgbClr val="008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0" name=""/>
              <p:cNvGrpSpPr/>
              <p:nvPr/>
            </p:nvGrpSpPr>
            <p:grpSpPr>
              <a:xfrm>
                <a:off x="549360" y="2309760"/>
                <a:ext cx="8184960" cy="2714760"/>
                <a:chOff x="549360" y="2309760"/>
                <a:chExt cx="8184960" cy="2714760"/>
              </a:xfrm>
            </p:grpSpPr>
            <p:grpSp>
              <p:nvGrpSpPr>
                <p:cNvPr id="1131" name=""/>
                <p:cNvGrpSpPr/>
                <p:nvPr/>
              </p:nvGrpSpPr>
              <p:grpSpPr>
                <a:xfrm>
                  <a:off x="1255680" y="2611440"/>
                  <a:ext cx="5884560" cy="1302840"/>
                  <a:chOff x="1255680" y="2611440"/>
                  <a:chExt cx="5884560" cy="1302840"/>
                </a:xfrm>
              </p:grpSpPr>
              <p:sp>
                <p:nvSpPr>
                  <p:cNvPr id="1132" name=""/>
                  <p:cNvSpPr/>
                  <p:nvPr/>
                </p:nvSpPr>
                <p:spPr>
                  <a:xfrm flipV="1">
                    <a:off x="1255680" y="3601800"/>
                    <a:ext cx="2207880" cy="31248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"/>
                  <p:cNvSpPr/>
                  <p:nvPr/>
                </p:nvSpPr>
                <p:spPr>
                  <a:xfrm flipV="1">
                    <a:off x="5640120" y="3025440"/>
                    <a:ext cx="1498680" cy="2347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 flipH="1">
                    <a:off x="7132320" y="2611440"/>
                    <a:ext cx="7920" cy="41724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549360" y="2309760"/>
                  <a:ext cx="8184960" cy="2714760"/>
                  <a:chOff x="549360" y="2309760"/>
                  <a:chExt cx="8184960" cy="27147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549360" y="3298680"/>
                    <a:ext cx="1933560" cy="1725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 flipV="1">
                    <a:off x="808200" y="2309760"/>
                    <a:ext cx="6018120" cy="95256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 flipV="1">
                    <a:off x="2490840" y="4016520"/>
                    <a:ext cx="6243480" cy="10000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7130880" y="2590920"/>
                    <a:ext cx="1595520" cy="143028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6816600" y="2314440"/>
                    <a:ext cx="309600" cy="277920"/>
                  </a:xfrm>
                  <a:prstGeom prst="line">
                    <a:avLst/>
                  </a:prstGeom>
                  <a:ln w="12600">
                    <a:solidFill>
                      <a:srgbClr val="0000cc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1" name=""/>
                  <p:cNvSpPr/>
                  <p:nvPr/>
                </p:nvSpPr>
                <p:spPr>
                  <a:xfrm flipV="1">
                    <a:off x="560520" y="3257280"/>
                    <a:ext cx="269640" cy="42840"/>
                  </a:xfrm>
                  <a:prstGeom prst="line">
                    <a:avLst/>
                  </a:prstGeom>
                  <a:ln w="2556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42" name=""/>
            <p:cNvSpPr/>
            <p:nvPr/>
          </p:nvSpPr>
          <p:spPr>
            <a:xfrm flipV="1">
              <a:off x="863640" y="3161880"/>
              <a:ext cx="2509920" cy="3812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5740560" y="2638080"/>
              <a:ext cx="1395360" cy="19044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799920" y="746280"/>
            <a:ext cx="6380280" cy="3254400"/>
            <a:chOff x="799920" y="746280"/>
            <a:chExt cx="6380280" cy="3254400"/>
          </a:xfrm>
        </p:grpSpPr>
        <p:sp>
          <p:nvSpPr>
            <p:cNvPr id="1145" name=""/>
            <p:cNvSpPr/>
            <p:nvPr/>
          </p:nvSpPr>
          <p:spPr>
            <a:xfrm flipV="1">
              <a:off x="841320" y="768240"/>
              <a:ext cx="6319800" cy="9907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799920" y="1755720"/>
              <a:ext cx="45720" cy="224496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V="1">
              <a:off x="804960" y="3921120"/>
              <a:ext cx="425520" cy="5544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7134120" y="746280"/>
              <a:ext cx="46080" cy="1903320"/>
            </a:xfrm>
            <a:prstGeom prst="line">
              <a:avLst/>
            </a:prstGeom>
            <a:ln w="255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3465360" y="3263760"/>
              <a:ext cx="2156040" cy="333360"/>
            </a:xfrm>
            <a:prstGeom prst="line">
              <a:avLst/>
            </a:prstGeom>
            <a:ln w="12600">
              <a:solidFill>
                <a:srgbClr val="0000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"/>
          <p:cNvSpPr/>
          <p:nvPr/>
        </p:nvSpPr>
        <p:spPr>
          <a:xfrm flipV="1">
            <a:off x="1222200" y="2673360"/>
            <a:ext cx="2133720" cy="113184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V="1">
            <a:off x="853920" y="3163680"/>
            <a:ext cx="2522520" cy="371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5730840" y="2620440"/>
            <a:ext cx="1436760" cy="2098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3041640" y="1915920"/>
            <a:ext cx="1233360" cy="2841480"/>
            <a:chOff x="3041640" y="1915920"/>
            <a:chExt cx="1233360" cy="2841480"/>
          </a:xfrm>
        </p:grpSpPr>
        <p:sp>
          <p:nvSpPr>
            <p:cNvPr id="1154" name=""/>
            <p:cNvSpPr/>
            <p:nvPr/>
          </p:nvSpPr>
          <p:spPr>
            <a:xfrm flipV="1">
              <a:off x="3054240" y="1915920"/>
              <a:ext cx="1220760" cy="281772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3041640" y="3816000"/>
              <a:ext cx="399960" cy="94140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3422520" y="3736800"/>
            <a:ext cx="9072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5365800" y="2835360"/>
            <a:ext cx="9036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083120" y="2200320"/>
            <a:ext cx="9036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800520" y="19526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535720" y="1454040"/>
            <a:ext cx="9036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53000" y="1143000"/>
            <a:ext cx="5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705200" y="3521160"/>
            <a:ext cx="9072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"/>
          <p:cNvGrpSpPr/>
          <p:nvPr/>
        </p:nvGrpSpPr>
        <p:grpSpPr>
          <a:xfrm>
            <a:off x="2968560" y="2862360"/>
            <a:ext cx="1433520" cy="1823760"/>
            <a:chOff x="2968560" y="2862360"/>
            <a:chExt cx="1433520" cy="1823760"/>
          </a:xfrm>
        </p:grpSpPr>
        <p:sp>
          <p:nvSpPr>
            <p:cNvPr id="1164" name=""/>
            <p:cNvSpPr/>
            <p:nvPr/>
          </p:nvSpPr>
          <p:spPr>
            <a:xfrm flipV="1">
              <a:off x="2978280" y="2862360"/>
              <a:ext cx="1423800" cy="182088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V="1">
              <a:off x="2968560" y="4008240"/>
              <a:ext cx="538200" cy="67788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"/>
          <p:cNvSpPr/>
          <p:nvPr/>
        </p:nvSpPr>
        <p:spPr>
          <a:xfrm>
            <a:off x="3171960" y="4322880"/>
            <a:ext cx="90360" cy="871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fill="hold">
                      <p:stCondLst>
                        <p:cond delay="0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43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46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0" dur="1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15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0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animEffect filter="blinds(vertical)" transition="out">
                                      <p:cBhvr additive="repl">
                                        <p:cTn id="117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174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6" dur="2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5500"/>
                            </p:stCondLst>
                            <p:childTnLst>
                              <p:par>
                                <p:cTn id="1178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77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1" dur="770" fill="hold"/>
                                        <p:tgtEl>
                                          <p:spTgt spid="1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3" dur="77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85" dur="77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0" dur="2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4" dur="77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5" dur="770" fill="hold"/>
                                        <p:tgtEl>
                                          <p:spTgt spid="1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7" dur="77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99" dur="77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0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2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6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8" dur="2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1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77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3" dur="770" fill="hold"/>
                                        <p:tgtEl>
                                          <p:spTgt spid="10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5" dur="77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7" dur="77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2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6" dur="77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7" dur="770" fill="hold"/>
                                        <p:tgtEl>
                                          <p:spTgt spid="11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9" dur="77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1" dur="77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3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6" dur="2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4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4" dur="77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5" dur="770" fill="hold"/>
                                        <p:tgtEl>
                                          <p:spTgt spid="10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47" dur="77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9" dur="77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5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5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77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9" dur="770" fill="hold"/>
                                        <p:tgtEl>
                                          <p:spTgt spid="11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61" dur="77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3" dur="77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fill="hold">
                            <p:stCondLst>
                              <p:cond delay="37500"/>
                            </p:stCondLst>
                            <p:childTnLst>
                              <p:par>
                                <p:cTn id="126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2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27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2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42500"/>
                            </p:stCondLst>
                            <p:childTnLst>
                              <p:par>
                                <p:cTn id="12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/>
          </p:nvPr>
        </p:nvSpPr>
        <p:spPr>
          <a:xfrm>
            <a:off x="457200" y="1460520"/>
            <a:ext cx="8229600" cy="12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Построить сечение призмы, проходящее через данную точку и след секущей плоскости если данная точка находится на верхнем основ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2687760" y="898560"/>
            <a:ext cx="340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2674800" y="2895120"/>
            <a:ext cx="2799000" cy="1587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695680" y="3040200"/>
            <a:ext cx="747720" cy="7426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427560" y="2903400"/>
            <a:ext cx="2014560" cy="89532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8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500"/>
                            </p:stCondLst>
                            <p:childTnLst>
                              <p:par>
                                <p:cTn id="1290" nodeType="afterEffect" fill="hold" presetClass="entr" presetID="27" repeatCount="1000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2" dur="8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3" dur="8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4" dur="80"/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7020"/>
                            </p:stCondLst>
                            <p:childTnLst>
                              <p:par>
                                <p:cTn id="1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8020"/>
                            </p:stCondLst>
                            <p:childTnLst>
                              <p:par>
                                <p:cTn id="130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8520"/>
                            </p:stCondLst>
                            <p:childTnLst>
                              <p:par>
                                <p:cTn id="1310" nodeType="after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4" nodeType="withEffect" fill="hold" presetClass="entr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9500"/>
                            </p:stCondLst>
                            <p:childTnLst>
                              <p:par>
                                <p:cTn id="132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3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 flipH="1">
            <a:off x="3844440" y="2411280"/>
            <a:ext cx="236520" cy="222120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 flipH="1">
            <a:off x="3816000" y="19065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 flipH="1">
            <a:off x="5492520" y="19065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851280" y="1941480"/>
            <a:ext cx="1944720" cy="2071800"/>
            <a:chOff x="3851280" y="1941480"/>
            <a:chExt cx="1944720" cy="2071800"/>
          </a:xfrm>
        </p:grpSpPr>
        <p:sp>
          <p:nvSpPr>
            <p:cNvPr id="1189" name=""/>
            <p:cNvSpPr/>
            <p:nvPr/>
          </p:nvSpPr>
          <p:spPr>
            <a:xfrm>
              <a:off x="4587840" y="1941480"/>
              <a:ext cx="179280" cy="100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549680" y="1982880"/>
              <a:ext cx="344520" cy="207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11520" y="2028960"/>
              <a:ext cx="516240" cy="3222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441680" y="2068560"/>
              <a:ext cx="731880" cy="4428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429080" y="2122560"/>
              <a:ext cx="903240" cy="557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352760" y="2155680"/>
              <a:ext cx="1125720" cy="6843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308480" y="2195640"/>
              <a:ext cx="1316160" cy="8110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257720" y="2236680"/>
              <a:ext cx="1360440" cy="830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200480" y="2270160"/>
              <a:ext cx="1443240" cy="880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49720" y="2317680"/>
              <a:ext cx="1506600" cy="9129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11560" y="2357280"/>
              <a:ext cx="1557360" cy="963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041720" y="2397240"/>
              <a:ext cx="1646280" cy="10015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010040" y="2438280"/>
              <a:ext cx="1677960" cy="1033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978360" y="2496960"/>
              <a:ext cx="1728720" cy="10591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933720" y="2543040"/>
              <a:ext cx="1792440" cy="10969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851280" y="2565360"/>
              <a:ext cx="1881360" cy="11541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990960" y="2725560"/>
              <a:ext cx="1760400" cy="107172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1560" y="2867040"/>
              <a:ext cx="1646280" cy="10144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32160" y="3009960"/>
              <a:ext cx="1563840" cy="957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378320" y="3164040"/>
              <a:ext cx="1392120" cy="84924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518000" y="3330720"/>
              <a:ext cx="376200" cy="23328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0" name=""/>
          <p:cNvSpPr/>
          <p:nvPr/>
        </p:nvSpPr>
        <p:spPr>
          <a:xfrm>
            <a:off x="4046400" y="189720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5729400" y="1887480"/>
            <a:ext cx="25848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2693880" y="1887120"/>
            <a:ext cx="138456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4637160" y="2249640"/>
            <a:ext cx="1384200" cy="3427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970360" y="2592360"/>
            <a:ext cx="17078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719440" y="2220840"/>
            <a:ext cx="25884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 flipH="1">
            <a:off x="2472840" y="221148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 flipH="1">
            <a:off x="5759280" y="2259000"/>
            <a:ext cx="23688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 flipH="1">
            <a:off x="4425480" y="2611440"/>
            <a:ext cx="236520" cy="21765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 flipH="1">
            <a:off x="2749320" y="259236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3817800" y="4097160"/>
            <a:ext cx="170820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500800" y="4087800"/>
            <a:ext cx="258480" cy="3538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408560" y="4449240"/>
            <a:ext cx="138420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741760" y="4792680"/>
            <a:ext cx="17078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490840" y="4421160"/>
            <a:ext cx="258840" cy="3538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2475000" y="4087440"/>
            <a:ext cx="1384200" cy="3430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3746520" y="2297160"/>
            <a:ext cx="4898880" cy="426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971640" y="5661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строим приз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009800" y="5384880"/>
            <a:ext cx="68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роведем след секущей плоскости приз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1170000" y="5118120"/>
            <a:ext cx="68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усть точка принадлежащая сечению находится на верхнем основ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4032360" y="2365200"/>
            <a:ext cx="90360" cy="87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200240" y="4791240"/>
            <a:ext cx="6797520" cy="93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 flipV="1">
            <a:off x="3895560" y="1881000"/>
            <a:ext cx="774720" cy="6966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838080" y="4305240"/>
            <a:ext cx="775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гда линия пересечения секущей плоскости с верхним основанием будет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следу секущей плоск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0" y="49500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цы отрезка, пересекающего верхнее основание принадлежат и соседним граням, поэтому дальнейшее построение сечения проводится так же, как было описано ранее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5730840" y="4754520"/>
            <a:ext cx="9036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3000240" y="1574640"/>
            <a:ext cx="3448080" cy="39927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540320" y="3367080"/>
            <a:ext cx="9036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flipV="1">
            <a:off x="2544840" y="3832200"/>
            <a:ext cx="5703840" cy="142416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6280200" y="4267080"/>
            <a:ext cx="9036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736800" y="2975040"/>
            <a:ext cx="3511800" cy="180792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746680" y="3992400"/>
            <a:ext cx="10800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6524640" y="4062240"/>
            <a:ext cx="90360" cy="874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5559480" y="2959200"/>
            <a:ext cx="90360" cy="871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5610240" y="2986200"/>
            <a:ext cx="187200" cy="105228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3914640" y="1090440"/>
            <a:ext cx="3521160" cy="3957840"/>
            <a:chOff x="3914640" y="1090440"/>
            <a:chExt cx="3521160" cy="3957840"/>
          </a:xfrm>
        </p:grpSpPr>
        <p:sp>
          <p:nvSpPr>
            <p:cNvPr id="1246" name=""/>
            <p:cNvSpPr/>
            <p:nvPr/>
          </p:nvSpPr>
          <p:spPr>
            <a:xfrm>
              <a:off x="3914640" y="1090440"/>
              <a:ext cx="3502080" cy="393876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905440" y="3328920"/>
              <a:ext cx="1530360" cy="17193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"/>
          <p:cNvGrpSpPr/>
          <p:nvPr/>
        </p:nvGrpSpPr>
        <p:grpSpPr>
          <a:xfrm>
            <a:off x="3186000" y="4094280"/>
            <a:ext cx="4683240" cy="20520"/>
            <a:chOff x="3186000" y="4094280"/>
            <a:chExt cx="4683240" cy="20520"/>
          </a:xfrm>
        </p:grpSpPr>
        <p:sp>
          <p:nvSpPr>
            <p:cNvPr id="1249" name=""/>
            <p:cNvSpPr/>
            <p:nvPr/>
          </p:nvSpPr>
          <p:spPr>
            <a:xfrm>
              <a:off x="3186000" y="4094280"/>
              <a:ext cx="4683240" cy="20520"/>
            </a:xfrm>
            <a:prstGeom prst="line">
              <a:avLst/>
            </a:prstGeom>
            <a:ln w="1260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824440" y="4103640"/>
              <a:ext cx="2025720" cy="111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3849840" y="2549520"/>
            <a:ext cx="7596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578480" y="1863720"/>
            <a:ext cx="90360" cy="874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80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600"/>
                            </p:stCondLst>
                            <p:childTnLst>
                              <p:par>
                                <p:cTn id="135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3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2900"/>
                            </p:stCondLst>
                            <p:childTnLst>
                              <p:par>
                                <p:cTn id="1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3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3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500"/>
                            </p:stCondLst>
                            <p:childTnLst>
                              <p:par>
                                <p:cTn id="13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4" dur="3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800"/>
                            </p:stCondLst>
                            <p:childTnLst>
                              <p:par>
                                <p:cTn id="13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8" dur="3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100"/>
                            </p:stCondLst>
                            <p:childTnLst>
                              <p:par>
                                <p:cTn id="13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2" dur="3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400"/>
                            </p:stCondLst>
                            <p:childTnLst>
                              <p:par>
                                <p:cTn id="1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3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4700"/>
                            </p:stCondLst>
                            <p:childTnLst>
                              <p:par>
                                <p:cTn id="1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0" dur="3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4" dur="3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300"/>
                            </p:stCondLst>
                            <p:childTnLst>
                              <p:par>
                                <p:cTn id="1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8" dur="3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600"/>
                            </p:stCondLst>
                            <p:childTnLst>
                              <p:par>
                                <p:cTn id="1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2" dur="3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900"/>
                            </p:stCondLst>
                            <p:childTnLst>
                              <p:par>
                                <p:cTn id="1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3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7" fill="hold">
                            <p:stCondLst>
                              <p:cond delay="6200"/>
                            </p:stCondLst>
                            <p:childTnLst>
                              <p:par>
                                <p:cTn id="1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3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1" fill="hold">
                            <p:stCondLst>
                              <p:cond delay="6500"/>
                            </p:stCondLst>
                            <p:childTnLst>
                              <p:par>
                                <p:cTn id="1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3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6800"/>
                            </p:stCondLst>
                            <p:childTnLst>
                              <p:par>
                                <p:cTn id="14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8" dur="3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7100"/>
                            </p:stCondLst>
                            <p:childTnLst>
                              <p:par>
                                <p:cTn id="14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3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7400"/>
                            </p:stCondLst>
                            <p:childTnLst>
                              <p:par>
                                <p:cTn id="1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6" dur="3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7700"/>
                            </p:stCondLst>
                            <p:childTnLst>
                              <p:par>
                                <p:cTn id="14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0" dur="3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422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Effect filter="blinds(vertical)" transition="out">
                                      <p:cBhvr additive="repl">
                                        <p:cTn id="1423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8500"/>
                            </p:stCondLst>
                            <p:childTnLst>
                              <p:par>
                                <p:cTn id="142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8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9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80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900"/>
                            </p:stCondLst>
                            <p:childTnLst>
                              <p:par>
                                <p:cTn id="1432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4400"/>
                            </p:stCondLst>
                            <p:childTnLst>
                              <p:par>
                                <p:cTn id="1436" nodeType="afterEffect" fill="hold" presetClass="exit" presetID="3" presetSubtype="5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Effect filter="blinds(vertical)" transition="out">
                                      <p:cBhvr additive="repl">
                                        <p:cTn id="143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15900"/>
                            </p:stCondLst>
                            <p:childTnLst>
                              <p:par>
                                <p:cTn id="14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2" dur="8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80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19220"/>
                            </p:stCondLst>
                            <p:childTnLst>
                              <p:par>
                                <p:cTn id="144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8" dur="77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9" dur="770" fill="hold"/>
                                        <p:tgtEl>
                                          <p:spTgt spid="123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51" dur="77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53" dur="77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1720"/>
                            </p:stCondLst>
                            <p:childTnLst>
                              <p:par>
                                <p:cTn id="14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8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3720"/>
                            </p:stCondLst>
                            <p:childTnLst>
                              <p:par>
                                <p:cTn id="1460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animEffect filter="blinds(vertical)" transition="out">
                                      <p:cBhvr additive="repl">
                                        <p:cTn id="146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24220"/>
                            </p:stCondLst>
                            <p:childTnLst>
                              <p:par>
                                <p:cTn id="1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6" dur="8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7" dur="8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8" dur="80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27940"/>
                            </p:stCondLst>
                            <p:childTnLst>
                              <p:par>
                                <p:cTn id="1470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2" dur="3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3" fill="hold">
                            <p:stCondLst>
                              <p:cond delay="34940"/>
                            </p:stCondLst>
                            <p:childTnLst>
                              <p:par>
                                <p:cTn id="1474" nodeType="afterEffect" fill="hold" presetClass="exit" presetID="3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himes.wav"/>
                                        </p:tgtEl>
                                      </p:cMediaNode>
                                    </p:audio>
                                    <p:animEffect filter="blinds(vertical)" transition="out">
                                      <p:cBhvr additive="repl">
                                        <p:cTn id="1475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35440"/>
                            </p:stCondLst>
                            <p:childTnLst>
                              <p:par>
                                <p:cTn id="14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77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1" dur="770" fill="hold"/>
                                        <p:tgtEl>
                                          <p:spTgt spid="1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3" dur="77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85" dur="77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37440"/>
                            </p:stCondLst>
                            <p:childTnLst>
                              <p:par>
                                <p:cTn id="14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0" dur="77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1" dur="770" fill="hold"/>
                                        <p:tgtEl>
                                          <p:spTgt spid="1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93" dur="77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5" dur="77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39440"/>
                            </p:stCondLst>
                            <p:childTnLst>
                              <p:par>
                                <p:cTn id="14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0" dur="8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1" dur="8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2" dur="80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04" nodeType="afterEffect" fill="hold" presetClass="exit" presetID="3" presetSubtype="5">
                                  <p:stCondLst>
                                    <p:cond delay="5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himes.wav"/>
                                        </p:tgtEl>
                                      </p:cMediaNode>
                                    </p:audio>
                                    <p:animEffect filter="blinds(vertical)" transition="out">
                                      <p:cBhvr additive="repl">
                                        <p:cTn id="150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50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3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4000"/>
                            </p:stCondLst>
                            <p:childTnLst>
                              <p:par>
                                <p:cTn id="1512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77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5" dur="770" fill="hold"/>
                                        <p:tgtEl>
                                          <p:spTgt spid="1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17" dur="77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19" dur="77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56500"/>
                            </p:stCondLst>
                            <p:childTnLst>
                              <p:par>
                                <p:cTn id="152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4" dur="3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526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8" dur="77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9" dur="770" fill="hold"/>
                                        <p:tgtEl>
                                          <p:spTgt spid="123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1" dur="77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33" dur="77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5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3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3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fill="hold">
                            <p:stCondLst>
                              <p:cond delay="66000"/>
                            </p:stCondLst>
                            <p:childTnLst>
                              <p:par>
                                <p:cTn id="1540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77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43" dur="770" fill="hold"/>
                                        <p:tgtEl>
                                          <p:spTgt spid="12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45" dur="77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7" dur="77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9" fill="hold">
                            <p:stCondLst>
                              <p:cond delay="68500"/>
                            </p:stCondLst>
                            <p:childTnLst>
                              <p:par>
                                <p:cTn id="155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2" dur="3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72000"/>
                            </p:stCondLst>
                            <p:childTnLst>
                              <p:par>
                                <p:cTn id="1554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6" dur="77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57" dur="770" fill="hold"/>
                                        <p:tgtEl>
                                          <p:spTgt spid="1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59" dur="77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61" dur="77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74500"/>
                            </p:stCondLst>
                            <p:childTnLst>
                              <p:par>
                                <p:cTn id="1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3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fill="hold">
                            <p:stCondLst>
                              <p:cond delay="77500"/>
                            </p:stCondLst>
                            <p:childTnLst>
                              <p:par>
                                <p:cTn id="1568" nodeType="after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0" dur="77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1" dur="770" fill="hold"/>
                                        <p:tgtEl>
                                          <p:spTgt spid="1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73" dur="77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5" dur="77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80000"/>
                            </p:stCondLst>
                            <p:childTnLst>
                              <p:par>
                                <p:cTn id="1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0" dur="3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83000"/>
                            </p:stCondLst>
                            <p:childTnLst>
                              <p:par>
                                <p:cTn id="15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12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fill="hold">
                            <p:stCondLst>
                              <p:cond delay="85000"/>
                            </p:stCondLst>
                            <p:childTnLst>
                              <p:par>
                                <p:cTn id="1592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3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88500"/>
                            </p:stCondLst>
                            <p:childTnLst>
                              <p:par>
                                <p:cTn id="15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8" dur="5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935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77920" y="560520"/>
            <a:ext cx="8534160" cy="23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решения многих геометрических задач, связанных с призмой полезно уметь строить на рисунке её сечения различными плоскост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846440" y="2742840"/>
            <a:ext cx="3746160" cy="2509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6200" y="2978280"/>
            <a:ext cx="979560" cy="2641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581800" y="2763720"/>
            <a:ext cx="97920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795760" y="5361120"/>
            <a:ext cx="3746160" cy="25056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82800" y="5614920"/>
            <a:ext cx="3013200" cy="10224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5795640" y="5373720"/>
            <a:ext cx="763560" cy="12812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031480" y="3612960"/>
            <a:ext cx="4359600" cy="1760040"/>
            <a:chOff x="2031480" y="3612960"/>
            <a:chExt cx="4359600" cy="1760040"/>
          </a:xfrm>
        </p:grpSpPr>
        <p:sp>
          <p:nvSpPr>
            <p:cNvPr id="102" name=""/>
            <p:cNvSpPr/>
            <p:nvPr/>
          </p:nvSpPr>
          <p:spPr>
            <a:xfrm flipH="1" flipV="1">
              <a:off x="2033280" y="3612960"/>
              <a:ext cx="3284640" cy="17348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2031480" y="3614400"/>
              <a:ext cx="4343400" cy="137412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300640" y="4974840"/>
              <a:ext cx="1090440" cy="388440"/>
            </a:xfrm>
            <a:prstGeom prst="line">
              <a:avLst/>
            </a:prstGeom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2409480" y="3743280"/>
              <a:ext cx="59040" cy="88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2590560" y="3779640"/>
              <a:ext cx="169920" cy="2030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2800080" y="3845880"/>
              <a:ext cx="217440" cy="2631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flipV="1">
              <a:off x="2963160" y="3913200"/>
              <a:ext cx="274680" cy="3232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3183840" y="3969720"/>
              <a:ext cx="312840" cy="393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3404520" y="4046400"/>
              <a:ext cx="351000" cy="444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3557520" y="4084200"/>
              <a:ext cx="442800" cy="57420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3749040" y="4160520"/>
              <a:ext cx="500040" cy="6217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3950640" y="4227480"/>
              <a:ext cx="585720" cy="717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4151160" y="4284720"/>
              <a:ext cx="614160" cy="764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4333680" y="4351320"/>
              <a:ext cx="681120" cy="8409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flipV="1">
              <a:off x="4534920" y="4407840"/>
              <a:ext cx="785880" cy="9651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736880" y="4465440"/>
              <a:ext cx="681120" cy="8409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898880" y="4503600"/>
              <a:ext cx="642960" cy="7934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100480" y="4579560"/>
              <a:ext cx="528480" cy="6598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5283000" y="4655520"/>
              <a:ext cx="471600" cy="5648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5502240" y="4722840"/>
              <a:ext cx="357120" cy="4312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flipV="1">
              <a:off x="5712840" y="4798800"/>
              <a:ext cx="281160" cy="3362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5848200" y="4817520"/>
              <a:ext cx="233280" cy="26964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6039720" y="4884480"/>
              <a:ext cx="147960" cy="1555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160800" y="2744280"/>
            <a:ext cx="2130120" cy="3002040"/>
            <a:chOff x="3160800" y="2744280"/>
            <a:chExt cx="2130120" cy="3002040"/>
          </a:xfrm>
        </p:grpSpPr>
        <p:sp>
          <p:nvSpPr>
            <p:cNvPr id="126" name=""/>
            <p:cNvSpPr/>
            <p:nvPr/>
          </p:nvSpPr>
          <p:spPr>
            <a:xfrm flipV="1">
              <a:off x="3160800" y="3651120"/>
              <a:ext cx="624240" cy="2095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803040" y="2744280"/>
              <a:ext cx="1487880" cy="922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178440" y="5516640"/>
              <a:ext cx="331560" cy="22968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490560" y="2745720"/>
              <a:ext cx="1782000" cy="2804760"/>
            </a:xfrm>
            <a:prstGeom prst="line">
              <a:avLst/>
            </a:prstGeom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627440" y="2903400"/>
              <a:ext cx="542880" cy="234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4038840" y="3106440"/>
              <a:ext cx="1014840" cy="4374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726360" y="3306600"/>
              <a:ext cx="1180800" cy="493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3668040" y="3525120"/>
              <a:ext cx="1112040" cy="4654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638520" y="3704400"/>
              <a:ext cx="1024200" cy="428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580200" y="3876480"/>
              <a:ext cx="985320" cy="4276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541320" y="4085640"/>
              <a:ext cx="868320" cy="3808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482640" y="4293720"/>
              <a:ext cx="819360" cy="3333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443400" y="4483800"/>
              <a:ext cx="731880" cy="305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384720" y="4693320"/>
              <a:ext cx="653760" cy="26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336120" y="4874400"/>
              <a:ext cx="595080" cy="2390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287520" y="5063040"/>
              <a:ext cx="526680" cy="21996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219120" y="5253480"/>
              <a:ext cx="468000" cy="2012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3180240" y="5444280"/>
              <a:ext cx="399960" cy="1540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3480" y="2997360"/>
            <a:ext cx="2987640" cy="10094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821120" y="2755800"/>
            <a:ext cx="750960" cy="12686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27600" y="4000680"/>
            <a:ext cx="979560" cy="26413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480"/>
                            </p:stCondLst>
                            <p:childTnLst>
                              <p:par>
                                <p:cTn id="52" nodeType="after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480"/>
                            </p:stCondLst>
                            <p:childTnLst>
                              <p:par>
                                <p:cTn id="56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5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98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2980"/>
                            </p:stCondLst>
                            <p:childTnLst>
                              <p:par>
                                <p:cTn id="64" nodeType="after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48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Построить сечение призмы проходящее через данную точку и след секущей плоскости если одна из боковых граней параллельна следу секущей плоск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 txBox="1"/>
          <p:nvPr/>
        </p:nvSpPr>
        <p:spPr>
          <a:xfrm>
            <a:off x="2687760" y="898560"/>
            <a:ext cx="3408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РИМЕР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3443400" y="292860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3433680" y="379080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5472000" y="2914560"/>
            <a:ext cx="33480" cy="1828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3490920" y="4719240"/>
            <a:ext cx="2043000" cy="863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3111480" y="3876840"/>
            <a:ext cx="5638680" cy="240480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fill="hold">
                      <p:stCondLst>
                        <p:cond delay="0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4" dur="8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5" dur="8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6" dur="80"/>
                                        <p:tgtEl>
                                          <p:spTgt spid="1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5500"/>
                            </p:stCondLst>
                            <p:childTnLst>
                              <p:par>
                                <p:cTn id="1618" nodeType="afterEffect" fill="hold" presetClass="entr" presetID="1">
                                  <p:stCondLst>
                                    <p:cond delay="96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9" nodeType="after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nodeType="withEffect" fill="hold" presetClass="exit" presetID="1">
                                  <p:stCondLst>
                                    <p:cond delay="56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fill="hold">
                            <p:stCondLst>
                              <p:cond delay="7060"/>
                            </p:stCondLst>
                            <p:childTnLst>
                              <p:par>
                                <p:cTn id="164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6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1">
                                  <p:stCondLst>
                                    <p:cond delay="52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7580"/>
                            </p:stCondLst>
                            <p:childTnLst>
                              <p:par>
                                <p:cTn id="165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8080"/>
                            </p:stCondLst>
                            <p:childTnLst>
                              <p:par>
                                <p:cTn id="16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8580"/>
                            </p:stCondLst>
                            <p:childTnLst>
                              <p:par>
                                <p:cTn id="167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fill="hold">
                            <p:stCondLst>
                              <p:cond delay="9080"/>
                            </p:stCondLst>
                            <p:childTnLst>
                              <p:par>
                                <p:cTn id="1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3" name=""/>
          <p:cNvGrpSpPr/>
          <p:nvPr/>
        </p:nvGrpSpPr>
        <p:grpSpPr>
          <a:xfrm>
            <a:off x="2703600" y="3174840"/>
            <a:ext cx="2764800" cy="1731960"/>
            <a:chOff x="2703600" y="3174840"/>
            <a:chExt cx="2764800" cy="1731960"/>
          </a:xfrm>
        </p:grpSpPr>
        <p:sp>
          <p:nvSpPr>
            <p:cNvPr id="1274" name=""/>
            <p:cNvSpPr/>
            <p:nvPr/>
          </p:nvSpPr>
          <p:spPr>
            <a:xfrm>
              <a:off x="2703600" y="3174840"/>
              <a:ext cx="261720" cy="20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25560" y="3246480"/>
              <a:ext cx="404280" cy="30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763720" y="3308400"/>
              <a:ext cx="613800" cy="58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768400" y="3370320"/>
              <a:ext cx="83304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806560" y="3452760"/>
              <a:ext cx="1051920" cy="115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825640" y="3524400"/>
              <a:ext cx="1271160" cy="144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854080" y="3605040"/>
              <a:ext cx="1537920" cy="163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892240" y="3678120"/>
              <a:ext cx="1719000" cy="173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30400" y="3759120"/>
              <a:ext cx="1890360" cy="192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49480" y="3830760"/>
              <a:ext cx="2138040" cy="210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977920" y="3903840"/>
              <a:ext cx="2366640" cy="239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016080" y="3984480"/>
              <a:ext cx="2452320" cy="2304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054240" y="4057560"/>
              <a:ext cx="2214000" cy="2206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63600" y="4129200"/>
              <a:ext cx="2043000" cy="2109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82680" y="4210200"/>
              <a:ext cx="1861920" cy="182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130200" y="4282920"/>
              <a:ext cx="1661760" cy="1828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159000" y="4354560"/>
              <a:ext cx="1499760" cy="173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187440" y="4435560"/>
              <a:ext cx="1328400" cy="1443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216240" y="4508640"/>
              <a:ext cx="1137600" cy="115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263760" y="4589640"/>
              <a:ext cx="937800" cy="87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273120" y="4660920"/>
              <a:ext cx="785520" cy="77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301920" y="4734000"/>
              <a:ext cx="613800" cy="68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330360" y="4815000"/>
              <a:ext cx="423360" cy="39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3377880" y="4886280"/>
              <a:ext cx="242640" cy="205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8" name=""/>
          <p:cNvSpPr/>
          <p:nvPr/>
        </p:nvSpPr>
        <p:spPr>
          <a:xfrm flipV="1">
            <a:off x="2671920" y="2904840"/>
            <a:ext cx="2814480" cy="1429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671920" y="303048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 flipV="1">
            <a:off x="2681280" y="4714560"/>
            <a:ext cx="2814480" cy="14292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681280" y="4840200"/>
            <a:ext cx="747720" cy="755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 flipV="1">
            <a:off x="3443400" y="4729320"/>
            <a:ext cx="2043000" cy="8632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2681280" y="305748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3424320" y="3790800"/>
            <a:ext cx="3312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5452920" y="2905200"/>
            <a:ext cx="33480" cy="1828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 flipV="1">
            <a:off x="3111480" y="3874680"/>
            <a:ext cx="5638680" cy="240516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666720" y="0"/>
            <a:ext cx="79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грань, содержащая данную точку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642960" y="468360"/>
            <a:ext cx="79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ллельна следу секущей плос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51280" y="4095720"/>
            <a:ext cx="476280" cy="370080"/>
            <a:chOff x="4751280" y="4095720"/>
            <a:chExt cx="476280" cy="370080"/>
          </a:xfrm>
        </p:grpSpPr>
        <p:sp>
          <p:nvSpPr>
            <p:cNvPr id="1310" name=""/>
            <p:cNvSpPr/>
            <p:nvPr/>
          </p:nvSpPr>
          <p:spPr>
            <a:xfrm>
              <a:off x="4881600" y="4378320"/>
              <a:ext cx="90360" cy="874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751280" y="409572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692280" y="987480"/>
            <a:ext cx="7932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 секущая плоскость пересекает эту грань по отрезку проходящему через эту точку 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параллельно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леду секущей плоск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 flipV="1">
            <a:off x="3467160" y="4222440"/>
            <a:ext cx="1990800" cy="7556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0" y="666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цесс дальнейшего построения сечения такой же как в предыдущих приме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1717560" y="3875040"/>
            <a:ext cx="2684520" cy="27036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3417840" y="4944960"/>
            <a:ext cx="9036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5446800" y="4164120"/>
            <a:ext cx="90360" cy="871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780000" y="5945040"/>
            <a:ext cx="9036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2622600" y="2951280"/>
            <a:ext cx="1378080" cy="3502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619360" y="3041640"/>
            <a:ext cx="9036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2473200" y="2998800"/>
            <a:ext cx="3657600" cy="1450800"/>
            <a:chOff x="2473200" y="2998800"/>
            <a:chExt cx="3657600" cy="1450800"/>
          </a:xfrm>
        </p:grpSpPr>
        <p:sp>
          <p:nvSpPr>
            <p:cNvPr id="1322" name=""/>
            <p:cNvSpPr/>
            <p:nvPr/>
          </p:nvSpPr>
          <p:spPr>
            <a:xfrm>
              <a:off x="2473200" y="2998800"/>
              <a:ext cx="219240" cy="889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11520" y="3094200"/>
              <a:ext cx="2781360" cy="10983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492880" y="4199040"/>
              <a:ext cx="637920" cy="250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5" name=""/>
          <p:cNvSpPr/>
          <p:nvPr/>
        </p:nvSpPr>
        <p:spPr>
          <a:xfrm>
            <a:off x="4927680" y="4424400"/>
            <a:ext cx="12600" cy="5302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 flipV="1">
            <a:off x="3433680" y="2918880"/>
            <a:ext cx="2043360" cy="8636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0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3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4" dur="80"/>
                                        <p:tgtEl>
                                          <p:spTgt spid="1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1320"/>
                            </p:stCondLst>
                            <p:childTnLst>
                              <p:par>
                                <p:cTn id="1696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77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9" dur="770" fill="hold"/>
                                        <p:tgtEl>
                                          <p:spTgt spid="13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1" dur="77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3" dur="77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4320"/>
                            </p:stCondLst>
                            <p:childTnLst>
                              <p:par>
                                <p:cTn id="1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8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6320"/>
                            </p:stCondLst>
                            <p:childTnLst>
                              <p:par>
                                <p:cTn id="171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2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3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80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5" fill="hold">
                            <p:stCondLst>
                              <p:cond delay="8640"/>
                            </p:stCondLst>
                            <p:childTnLst>
                              <p:par>
                                <p:cTn id="17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8" dur="80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9" dur="80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0" dur="80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2840"/>
                            </p:stCondLst>
                            <p:childTnLst>
                              <p:par>
                                <p:cTn id="1722" nodeType="afterEffect" fill="hold" presetClass="entr" presetID="22" presetSubtype="8" repeatCount="1000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4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634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734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6" nodeType="with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37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1740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5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6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7" dur="80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fill="hold">
                            <p:stCondLst>
                              <p:cond delay="7100"/>
                            </p:stCondLst>
                            <p:childTnLst>
                              <p:par>
                                <p:cTn id="1749" nodeType="afterEffect" fill="hold" presetClass="exit" presetID="3" presetSubtype="10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175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9600"/>
                            </p:stCondLst>
                            <p:childTnLst>
                              <p:par>
                                <p:cTn id="175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77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6" dur="770" fill="hold"/>
                                        <p:tgtEl>
                                          <p:spTgt spid="13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8" dur="77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0" dur="77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11600"/>
                            </p:stCondLst>
                            <p:childTnLst>
                              <p:par>
                                <p:cTn id="17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5" dur="77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6" dur="770" fill="hold"/>
                                        <p:tgtEl>
                                          <p:spTgt spid="13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8" dur="77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0" dur="77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3600"/>
                            </p:stCondLst>
                            <p:childTnLst>
                              <p:par>
                                <p:cTn id="17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5" dur="20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15600"/>
                            </p:stCondLst>
                            <p:childTnLst>
                              <p:par>
                                <p:cTn id="177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77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0" dur="770" fill="hold"/>
                                        <p:tgtEl>
                                          <p:spTgt spid="13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2" dur="77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4" dur="77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fill="hold">
                            <p:stCondLst>
                              <p:cond delay="17600"/>
                            </p:stCondLst>
                            <p:childTnLst>
                              <p:par>
                                <p:cTn id="1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9" dur="2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9600"/>
                            </p:stCondLst>
                            <p:childTnLst>
                              <p:par>
                                <p:cTn id="17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3" dur="77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4" dur="770" fill="hold"/>
                                        <p:tgtEl>
                                          <p:spTgt spid="13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96" dur="77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8" dur="77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21600"/>
                            </p:stCondLst>
                            <p:childTnLst>
                              <p:par>
                                <p:cTn id="18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3" dur="30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4" fill="hold">
                            <p:stCondLst>
                              <p:cond delay="24600"/>
                            </p:stCondLst>
                            <p:childTnLst>
                              <p:par>
                                <p:cTn id="18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7" dur="3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rot="18126600">
            <a:off x="3091320" y="2767320"/>
            <a:ext cx="2552760" cy="2379600"/>
          </a:xfrm>
          <a:prstGeom prst="parallelogram">
            <a:avLst>
              <a:gd name="adj" fmla="val 6748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46440" y="2297160"/>
            <a:ext cx="1557000" cy="87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16200" y="2368440"/>
            <a:ext cx="97956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81800" y="2154240"/>
            <a:ext cx="97920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795760" y="4750920"/>
            <a:ext cx="3746160" cy="250920"/>
          </a:xfrm>
          <a:prstGeom prst="line">
            <a:avLst/>
          </a:prstGeom>
          <a:ln w="1908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808600" y="4776840"/>
            <a:ext cx="750960" cy="12430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3480" y="2387520"/>
            <a:ext cx="1224000" cy="39384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21120" y="2146320"/>
            <a:ext cx="750960" cy="1268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27600" y="3390840"/>
            <a:ext cx="979560" cy="2641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82800" y="5005440"/>
            <a:ext cx="1247760" cy="4255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27320" y="5427720"/>
            <a:ext cx="669960" cy="2221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62360" y="5637240"/>
            <a:ext cx="1149480" cy="374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71760" y="2249640"/>
            <a:ext cx="596880" cy="4752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963960" y="2149200"/>
            <a:ext cx="1635120" cy="982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816200" y="2224080"/>
            <a:ext cx="3382920" cy="3420720"/>
            <a:chOff x="1816200" y="2224080"/>
            <a:chExt cx="3382920" cy="3420720"/>
          </a:xfrm>
        </p:grpSpPr>
        <p:sp>
          <p:nvSpPr>
            <p:cNvPr id="164" name=""/>
            <p:cNvSpPr/>
            <p:nvPr/>
          </p:nvSpPr>
          <p:spPr>
            <a:xfrm flipH="1">
              <a:off x="1828440" y="2254320"/>
              <a:ext cx="2163960" cy="12204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flipV="1">
              <a:off x="1816200" y="2376360"/>
              <a:ext cx="1719360" cy="5889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1828800" y="2401920"/>
              <a:ext cx="944640" cy="259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3517560" y="2935080"/>
              <a:ext cx="1135080" cy="270972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3988080" y="2224080"/>
              <a:ext cx="1211040" cy="2595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535560" y="2236680"/>
              <a:ext cx="439560" cy="7416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678560" y="4827240"/>
              <a:ext cx="503280" cy="8175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86040" y="5010120"/>
              <a:ext cx="1887840" cy="6174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824200" y="4815000"/>
              <a:ext cx="2357640" cy="195120"/>
            </a:xfrm>
            <a:prstGeom prst="line">
              <a:avLst/>
            </a:prstGeom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58960" y="2147760"/>
            <a:ext cx="2997000" cy="3897360"/>
            <a:chOff x="3558960" y="2147760"/>
            <a:chExt cx="2997000" cy="3897360"/>
          </a:xfrm>
        </p:grpSpPr>
        <p:sp>
          <p:nvSpPr>
            <p:cNvPr id="174" name=""/>
            <p:cNvSpPr/>
            <p:nvPr/>
          </p:nvSpPr>
          <p:spPr>
            <a:xfrm flipH="1">
              <a:off x="3558960" y="2262240"/>
              <a:ext cx="433080" cy="7347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841640" y="2160360"/>
              <a:ext cx="725040" cy="12556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806800" y="4802040"/>
              <a:ext cx="725040" cy="12175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67040" y="2147760"/>
              <a:ext cx="988920" cy="26272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43080" y="3405240"/>
              <a:ext cx="963360" cy="26398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60400" y="3011400"/>
              <a:ext cx="1115640" cy="26654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05000" y="2262240"/>
              <a:ext cx="1166400" cy="257652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4665600" y="4825440"/>
              <a:ext cx="518760" cy="83988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652640" y="5664240"/>
              <a:ext cx="1141200" cy="36648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5186160" y="4760280"/>
              <a:ext cx="1356840" cy="78120"/>
            </a:xfrm>
            <a:prstGeom prst="line">
              <a:avLst/>
            </a:prstGeom>
            <a:ln w="316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005000" y="2169720"/>
              <a:ext cx="1547640" cy="9036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60400" y="2971800"/>
              <a:ext cx="1293480" cy="4302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06440"/>
            <a:ext cx="8483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кущая плоскость пересекает грани призмы по отрезк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000" y="361800"/>
            <a:ext cx="8534160" cy="14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зовем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екущей плоскостью приз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любую плоскость , по обе стороны от которой имеются точки данной пр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65440" y="2967120"/>
            <a:ext cx="1279440" cy="45540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38400" y="2778120"/>
            <a:ext cx="536760" cy="19368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43360" y="1335240"/>
            <a:ext cx="2721600" cy="5271480"/>
            <a:chOff x="2943360" y="1335240"/>
            <a:chExt cx="2721600" cy="5271480"/>
          </a:xfrm>
        </p:grpSpPr>
        <p:grpSp>
          <p:nvGrpSpPr>
            <p:cNvPr id="191" name=""/>
            <p:cNvGrpSpPr/>
            <p:nvPr/>
          </p:nvGrpSpPr>
          <p:grpSpPr>
            <a:xfrm>
              <a:off x="2943360" y="1335240"/>
              <a:ext cx="2721600" cy="5271480"/>
              <a:chOff x="2943360" y="1335240"/>
              <a:chExt cx="2721600" cy="527148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943360" y="1335240"/>
                <a:ext cx="2721600" cy="5271480"/>
                <a:chOff x="2943360" y="1335240"/>
                <a:chExt cx="2721600" cy="5271480"/>
              </a:xfrm>
            </p:grpSpPr>
            <p:grpSp>
              <p:nvGrpSpPr>
                <p:cNvPr id="193" name=""/>
                <p:cNvGrpSpPr/>
                <p:nvPr/>
              </p:nvGrpSpPr>
              <p:grpSpPr>
                <a:xfrm>
                  <a:off x="2943360" y="1335240"/>
                  <a:ext cx="2721600" cy="5271480"/>
                  <a:chOff x="2943360" y="1335240"/>
                  <a:chExt cx="2721600" cy="527148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flipV="1">
                    <a:off x="3530520" y="2225520"/>
                    <a:ext cx="466200" cy="74952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flipV="1">
                    <a:off x="4682880" y="4829040"/>
                    <a:ext cx="517320" cy="81288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 flipH="1" flipV="1">
                    <a:off x="3536640" y="2974680"/>
                    <a:ext cx="1133280" cy="269244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 flipV="1">
                    <a:off x="3993480" y="2238120"/>
                    <a:ext cx="1209240" cy="261612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flipH="1" flipV="1">
                    <a:off x="2952360" y="2963520"/>
                    <a:ext cx="1606320" cy="361620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 flipH="1" flipV="1">
                    <a:off x="4074840" y="1345680"/>
                    <a:ext cx="358560" cy="87012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 flipH="1" flipV="1">
                    <a:off x="4442760" y="2234880"/>
                    <a:ext cx="1222200" cy="277812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 flipV="1">
                    <a:off x="2943360" y="1335240"/>
                    <a:ext cx="1144080" cy="163800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 flipV="1">
                    <a:off x="4536720" y="5787720"/>
                    <a:ext cx="568080" cy="819000"/>
                  </a:xfrm>
                  <a:prstGeom prst="line">
                    <a:avLst/>
                  </a:prstGeom>
                  <a:ln w="3816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3911400" y="2373480"/>
                    <a:ext cx="147240" cy="50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"/>
                  <p:cNvSpPr/>
                  <p:nvPr/>
                </p:nvSpPr>
                <p:spPr>
                  <a:xfrm>
                    <a:off x="3876480" y="2444760"/>
                    <a:ext cx="229680" cy="792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"/>
                  <p:cNvSpPr/>
                  <p:nvPr/>
                </p:nvSpPr>
                <p:spPr>
                  <a:xfrm>
                    <a:off x="3819240" y="2490840"/>
                    <a:ext cx="344160" cy="1332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3794040" y="2556000"/>
                    <a:ext cx="407520" cy="158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749400" y="2603520"/>
                    <a:ext cx="499680" cy="1936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705120" y="2668680"/>
                    <a:ext cx="599760" cy="2286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3666960" y="2727360"/>
                    <a:ext cx="686880" cy="2509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3628800" y="2781360"/>
                    <a:ext cx="734760" cy="279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3609720" y="2846520"/>
                    <a:ext cx="810720" cy="3045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3571560" y="2905200"/>
                    <a:ext cx="867960" cy="3175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3501720" y="2946240"/>
                    <a:ext cx="975960" cy="3780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3552480" y="3036960"/>
                    <a:ext cx="963360" cy="3682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584520" y="3114720"/>
                    <a:ext cx="978840" cy="3715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3616200" y="3213000"/>
                    <a:ext cx="995040" cy="374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3686040" y="3303720"/>
                    <a:ext cx="972720" cy="3744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3711240" y="3389400"/>
                    <a:ext cx="98892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755880" y="3473280"/>
                    <a:ext cx="969480" cy="374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3794040" y="3557520"/>
                    <a:ext cx="982080" cy="3812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3813120" y="3637080"/>
                    <a:ext cx="98856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3870000" y="3733920"/>
                    <a:ext cx="97596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3876480" y="3811680"/>
                    <a:ext cx="102024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3933720" y="3903840"/>
                    <a:ext cx="1007640" cy="3870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965400" y="3987720"/>
                    <a:ext cx="102024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3990600" y="4071960"/>
                    <a:ext cx="100800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4035240" y="4151160"/>
                    <a:ext cx="102024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4060440" y="4241880"/>
                    <a:ext cx="103968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4086000" y="4321080"/>
                    <a:ext cx="1058400" cy="4003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4124160" y="4405320"/>
                    <a:ext cx="1014120" cy="3873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4181400" y="4489560"/>
                    <a:ext cx="982080" cy="3808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4225680" y="4587840"/>
                    <a:ext cx="893520" cy="3430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257360" y="4665600"/>
                    <a:ext cx="811080" cy="3240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4295520" y="4756320"/>
                    <a:ext cx="753840" cy="2919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4314600" y="4848120"/>
                    <a:ext cx="703080" cy="2602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4377960" y="4944960"/>
                    <a:ext cx="595080" cy="22860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4397040" y="5010120"/>
                    <a:ext cx="550800" cy="2095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4422600" y="5102280"/>
                    <a:ext cx="480600" cy="1778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4466880" y="5180040"/>
                    <a:ext cx="392040" cy="1522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4505040" y="5270400"/>
                    <a:ext cx="315720" cy="12708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549680" y="5362560"/>
                    <a:ext cx="245520" cy="889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"/>
                  <p:cNvSpPr/>
                  <p:nvPr/>
                </p:nvSpPr>
                <p:spPr>
                  <a:xfrm>
                    <a:off x="4587840" y="5452920"/>
                    <a:ext cx="163080" cy="6372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"/>
                  <p:cNvSpPr/>
                  <p:nvPr/>
                </p:nvSpPr>
                <p:spPr>
                  <a:xfrm>
                    <a:off x="4587840" y="5532480"/>
                    <a:ext cx="144000" cy="5076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946320" y="2319480"/>
                    <a:ext cx="112320" cy="28440"/>
                  </a:xfrm>
                  <a:prstGeom prst="line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 flipV="1">
                    <a:off x="5108400" y="5003280"/>
                    <a:ext cx="555120" cy="800280"/>
                  </a:xfrm>
                  <a:prstGeom prst="line">
                    <a:avLst/>
                  </a:prstGeom>
                  <a:ln w="19080">
                    <a:solidFill>
                      <a:srgbClr val="00008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6" name=""/>
                <p:cNvSpPr/>
                <p:nvPr/>
              </p:nvSpPr>
              <p:spPr>
                <a:xfrm>
                  <a:off x="4065480" y="5450040"/>
                  <a:ext cx="997200" cy="330120"/>
                </a:xfrm>
                <a:prstGeom prst="line">
                  <a:avLst/>
                </a:prstGeom>
                <a:ln w="19080">
                  <a:solidFill>
                    <a:srgbClr val="8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"/>
              <p:cNvSpPr/>
              <p:nvPr/>
            </p:nvSpPr>
            <p:spPr>
              <a:xfrm flipV="1">
                <a:off x="3386160" y="2225520"/>
                <a:ext cx="1044720" cy="66960"/>
              </a:xfrm>
              <a:prstGeom prst="line">
                <a:avLst/>
              </a:prstGeom>
              <a:ln w="19080">
                <a:solidFill>
                  <a:srgbClr val="8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3090600" y="2778120"/>
              <a:ext cx="461520" cy="164520"/>
            </a:xfrm>
            <a:prstGeom prst="line">
              <a:avLst/>
            </a:prstGeom>
            <a:ln w="19080">
              <a:solidFill>
                <a:srgbClr val="8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95040" y="3104640"/>
            <a:ext cx="814860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Уточним, что понимает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 </a:t>
            </a: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сечением приз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533760" y="2252160"/>
            <a:ext cx="447840" cy="7002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97440" y="2257560"/>
            <a:ext cx="1197000" cy="2579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680000" y="4831920"/>
            <a:ext cx="525240" cy="84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3517920" y="2946240"/>
            <a:ext cx="1162080" cy="27324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52520"/>
            <a:ext cx="91440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ногоугольник, сторонами которого являются эти отрезки, называется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ечением приз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6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88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64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414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2" presetSubtype="4">
                                  <p:stCondLst>
                                    <p:cond delay="116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8">
                                  <p:stCondLst>
                                    <p:cond delay="242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2" presetSubtype="1">
                                  <p:stCondLst>
                                    <p:cond delay="156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92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42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720"/>
                            </p:stCondLst>
                            <p:childTnLst>
                              <p:par>
                                <p:cTn id="131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20"/>
                            </p:stCondLst>
                            <p:childTnLst>
                              <p:par>
                                <p:cTn id="134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320"/>
                            </p:stCondLst>
                            <p:childTnLst>
                              <p:par>
                                <p:cTn id="137" nodeType="afterEffect" fill="hold" presetClass="entr" presetID="1" repeatCount="1000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620"/>
                            </p:stCondLst>
                            <p:childTnLst>
                              <p:par>
                                <p:cTn id="140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92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920"/>
                            </p:stCondLst>
                            <p:childTnLst>
                              <p:par>
                                <p:cTn id="146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2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20"/>
                            </p:stCondLst>
                            <p:childTnLst>
                              <p:par>
                                <p:cTn id="152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82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119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420"/>
                            </p:stCondLst>
                            <p:childTnLst>
                              <p:par>
                                <p:cTn id="161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42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234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4340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484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34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584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34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684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7340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784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340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884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9340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984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34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084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1340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184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9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900"/>
                            </p:stCondLst>
                            <p:childTnLst>
                              <p:par>
                                <p:cTn id="246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push.wav"/>
                                        </p:tgtEl>
                                      </p:cMediaNode>
                                    </p:audio>
                                    <p:animMotion origin="layout" path="M 0 0 L 0 0.33295 E">
                                      <p:cBhvr>
                                        <p:cTn id="247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4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 flipV="1">
            <a:off x="2495520" y="4611240"/>
            <a:ext cx="1384200" cy="34308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9760" y="29844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61800" y="425520"/>
            <a:ext cx="852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ечения призмы плоскостями, параллельными боковым ребрам, являются параллелограмм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3836520" y="24303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5513040" y="2430360"/>
            <a:ext cx="236520" cy="22208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067280" y="242100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749920" y="2411280"/>
            <a:ext cx="25884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2714760" y="2410920"/>
            <a:ext cx="1384200" cy="3430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39960" y="2744640"/>
            <a:ext cx="25884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493720" y="273528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779800" y="278280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69840" y="311616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38680" y="4621320"/>
            <a:ext cx="1708200" cy="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521320" y="4611600"/>
            <a:ext cx="258840" cy="354240"/>
          </a:xfrm>
          <a:prstGeom prst="line">
            <a:avLst/>
          </a:prstGeom>
          <a:ln w="255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4429080" y="4973760"/>
            <a:ext cx="1384200" cy="3427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11360" y="4944960"/>
            <a:ext cx="258840" cy="3542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77800"/>
            <a:ext cx="8916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частности параллелограммами являются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диагональные сеч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Это сечения плоскостями, проходящими через два боковых ребра, не принадлежащей одной гр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2751120" y="2401920"/>
            <a:ext cx="3003480" cy="2933640"/>
            <a:chOff x="2751120" y="2401920"/>
            <a:chExt cx="3003480" cy="2933640"/>
          </a:xfrm>
        </p:grpSpPr>
        <p:sp>
          <p:nvSpPr>
            <p:cNvPr id="275" name=""/>
            <p:cNvSpPr/>
            <p:nvPr/>
          </p:nvSpPr>
          <p:spPr>
            <a:xfrm flipV="1">
              <a:off x="3002040" y="2464920"/>
              <a:ext cx="2709720" cy="6159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833560" y="4655880"/>
              <a:ext cx="2644920" cy="6159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768760" y="3103560"/>
              <a:ext cx="242640" cy="2232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5511960" y="2401920"/>
              <a:ext cx="242640" cy="223200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968560" y="2919240"/>
              <a:ext cx="722520" cy="3765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954160" y="2771640"/>
              <a:ext cx="1373400" cy="7257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2940120" y="2627280"/>
              <a:ext cx="1941480" cy="10303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2940120" y="2539800"/>
              <a:ext cx="2360520" cy="126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940120" y="2495160"/>
              <a:ext cx="2781360" cy="145116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882880" y="2637000"/>
              <a:ext cx="2824200" cy="146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2867040" y="2781360"/>
              <a:ext cx="2840040" cy="14666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838600" y="2925720"/>
              <a:ext cx="2868480" cy="14954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838600" y="3096720"/>
              <a:ext cx="2840040" cy="1452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2852640" y="3228840"/>
              <a:ext cx="2795760" cy="14796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2824200" y="3371760"/>
              <a:ext cx="2825640" cy="146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2793960" y="3532320"/>
              <a:ext cx="2854440" cy="146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2765520" y="3674880"/>
              <a:ext cx="2854080" cy="14792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2751120" y="3848040"/>
              <a:ext cx="2868480" cy="14652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346560" y="4006800"/>
              <a:ext cx="2201760" cy="1131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3868560" y="4165200"/>
              <a:ext cx="1694160" cy="8701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4390920" y="4295880"/>
              <a:ext cx="1171800" cy="6220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4870440" y="4438440"/>
              <a:ext cx="677880" cy="36180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 flipV="1">
            <a:off x="4657680" y="2773440"/>
            <a:ext cx="1384200" cy="34272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4446360" y="3135240"/>
            <a:ext cx="236520" cy="222084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273480" y="2535120"/>
            <a:ext cx="1117440" cy="2820960"/>
            <a:chOff x="3273480" y="2535120"/>
            <a:chExt cx="1117440" cy="2820960"/>
          </a:xfrm>
        </p:grpSpPr>
        <p:sp>
          <p:nvSpPr>
            <p:cNvPr id="300" name=""/>
            <p:cNvSpPr/>
            <p:nvPr/>
          </p:nvSpPr>
          <p:spPr>
            <a:xfrm flipH="1">
              <a:off x="4137120" y="3114720"/>
              <a:ext cx="249120" cy="2233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3287880" y="2550960"/>
              <a:ext cx="303120" cy="221616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589200" y="2535120"/>
              <a:ext cx="801720" cy="60192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3480" y="4748040"/>
              <a:ext cx="853920" cy="6080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595680" y="2627280"/>
              <a:ext cx="162000" cy="33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76600" y="2708280"/>
              <a:ext cx="28404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48160" y="2798640"/>
              <a:ext cx="43632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38440" y="2881440"/>
              <a:ext cx="560520" cy="442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8160" y="2952720"/>
              <a:ext cx="664920" cy="44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29080" y="3014640"/>
              <a:ext cx="76032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10000" y="3087720"/>
              <a:ext cx="87480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0280" y="3159000"/>
              <a:ext cx="85572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00280" y="3232080"/>
              <a:ext cx="85572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471840" y="3294000"/>
              <a:ext cx="893880" cy="82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90920" y="3384720"/>
              <a:ext cx="836640" cy="72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490920" y="3457440"/>
              <a:ext cx="826920" cy="6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81560" y="3519360"/>
              <a:ext cx="83628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62480" y="3591000"/>
              <a:ext cx="83664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43400" y="3673440"/>
              <a:ext cx="855720" cy="63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36920" y="3738600"/>
              <a:ext cx="85248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17840" y="3809880"/>
              <a:ext cx="85248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11360" y="3882960"/>
              <a:ext cx="86868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79680" y="3941640"/>
              <a:ext cx="900360" cy="8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86160" y="4021200"/>
              <a:ext cx="88416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3560" y="4092480"/>
              <a:ext cx="87768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0600" y="4164120"/>
              <a:ext cx="89064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354480" y="4237200"/>
              <a:ext cx="88740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341520" y="4308480"/>
              <a:ext cx="890640" cy="856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5680" y="4376880"/>
              <a:ext cx="887400" cy="88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22800" y="4452840"/>
              <a:ext cx="88092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16320" y="4518000"/>
              <a:ext cx="915840" cy="73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09840" y="4595760"/>
              <a:ext cx="89388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97240" y="4668840"/>
              <a:ext cx="887400" cy="66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03720" y="4721400"/>
              <a:ext cx="909360" cy="759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28920" y="4799160"/>
              <a:ext cx="846360" cy="69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81560" y="4890960"/>
              <a:ext cx="693720" cy="60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602160" y="4981680"/>
              <a:ext cx="573120" cy="410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10160" y="5060880"/>
              <a:ext cx="446040" cy="3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855960" y="5157720"/>
              <a:ext cx="300240" cy="19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963960" y="5229360"/>
              <a:ext cx="15408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2990880" y="311616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2280" y="5316480"/>
            <a:ext cx="170820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3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12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912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27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xit" presetID="3" presetSubtype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animEffect filter="blinds(horizontal)" transition="out">
                                      <p:cBhvr additive="repl">
                                        <p:cTn id="2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8440"/>
                            </p:stCondLst>
                            <p:childTnLst>
                              <p:par>
                                <p:cTn id="286" nodeType="after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244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suction.wav"/>
                                        </p:tgtEl>
                                      </p:cMediaNode>
                                    </p:audio>
                                    <p:animEffect filter="wipe(down)" transition="out">
                                      <p:cBhvr additive="repl">
                                        <p:cTn id="298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8960" y="1363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иболее доступными и эффективными методами построения сечения призмы являются три мето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3240" y="2654280"/>
            <a:ext cx="82296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Метод сле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65280" y="3584520"/>
            <a:ext cx="822960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Комбинированны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63480" y="3076560"/>
            <a:ext cx="8229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Метод вспомогательных сеч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49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3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240"/>
                            </p:stCondLst>
                            <p:childTnLst>
                              <p:par>
                                <p:cTn id="31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24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7240"/>
                            </p:stCondLst>
                            <p:childTnLst>
                              <p:par>
                                <p:cTn id="32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924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473040" y="274752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38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Метод следов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2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/>
          </p:nvPr>
        </p:nvSpPr>
        <p:spPr>
          <a:xfrm>
            <a:off x="457200" y="62244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 решении задач часто приходится строить сечение призмы плоскостью, проходящей через след секущей плоскости на плоскости осн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5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472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225360" y="1600200"/>
            <a:ext cx="84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ыясним, какая прямая называется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следом секущей плоскост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на плоскости основания призм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7427880" y="6411960"/>
            <a:ext cx="147636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28496" dir="1777448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далее&gt;&gt;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28496" dir="1777448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58" name="">
            <a:hlinkClick r:id="rId1"/>
          </p:cNvPr>
          <p:cNvSpPr/>
          <p:nvPr/>
        </p:nvSpPr>
        <p:spPr>
          <a:xfrm>
            <a:off x="3419640" y="6524640"/>
            <a:ext cx="227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바탕"/>
              </a:rPr>
              <a:t>www.matematika-na5.narod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16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06:03:37Z</dcterms:created>
  <dc:creator>Петровских Сергей Анатольевич</dc:creator>
  <dc:description/>
  <dc:language>en-US</dc:language>
  <cp:lastModifiedBy>***</cp:lastModifiedBy>
  <dcterms:modified xsi:type="dcterms:W3CDTF">2010-08-22T16:01:00Z</dcterms:modified>
  <cp:revision>218</cp:revision>
  <dc:subject/>
  <dc:title>Слайд 1</dc:title>
</cp:coreProperties>
</file>