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01C-123F-4F6F-9636-79C970FD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C50-6FFF-47B0-BA73-0672D08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E8B-B65A-4D71-BBF5-1BE38FBD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7A0-01A9-4374-B5A1-1F61FCBB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A7A-B455-4C87-98E1-0A19C03B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375-2514-43A4-88F3-6222E85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00B-92F7-4AAE-B4C9-830BC92C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822-50E2-40B7-ABD6-DFEAFD92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F1D-D2CE-4560-AE7C-97A1EE7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A1F-CDF1-4E53-A434-FA51543F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D69-7EA5-43F6-8564-7080DAE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636-9283-4F0A-B601-A60806D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792-4AB8-4D64-A1B1-9E8C52C0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71800"/>
            <a:ext cx="79246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9620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оло любого правильного многоугольника можно описать окружность, и притом только од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752480"/>
            <a:ext cx="5486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Теорем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60958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С. Петровских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293364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99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572000"/>
            <a:ext cx="8610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 7-9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. С. Атанасян, В. Ф. Бутус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 Б. Кадомцев и др. - 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981080" y="74520"/>
            <a:ext cx="8153640" cy="7983720"/>
            <a:chOff x="1981080" y="74520"/>
            <a:chExt cx="8153640" cy="7983720"/>
          </a:xfrm>
        </p:grpSpPr>
        <p:sp>
          <p:nvSpPr>
            <p:cNvPr id="304" name=""/>
            <p:cNvSpPr/>
            <p:nvPr/>
          </p:nvSpPr>
          <p:spPr>
            <a:xfrm rot="6745800">
              <a:off x="3499200" y="2064240"/>
              <a:ext cx="2735280" cy="33433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3857400" y="719280"/>
              <a:ext cx="261756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8640" y="4371840"/>
              <a:ext cx="1079640" cy="263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60640" y="6985080"/>
              <a:ext cx="2627640" cy="10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59480" y="6988320"/>
              <a:ext cx="260676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051840" y="4375080"/>
              <a:ext cx="1082880" cy="263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9064800" y="1776240"/>
              <a:ext cx="1069920" cy="262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6451200" y="713880"/>
              <a:ext cx="2630520" cy="107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6602400" y="74520"/>
                  <a:ext cx="8748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9015480" y="1162080"/>
                  <a:ext cx="92700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83040" y="6948360"/>
                  <a:ext cx="8762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 flipV="1">
              <a:off x="6469200" y="718920"/>
              <a:ext cx="0" cy="363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69200" y="1792440"/>
              <a:ext cx="2587320" cy="25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469200" y="4349520"/>
              <a:ext cx="0" cy="367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469200" y="4398840"/>
              <a:ext cx="366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468840" y="4349880"/>
              <a:ext cx="2547720" cy="262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90880" y="4349880"/>
              <a:ext cx="2578320" cy="262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00080" y="1776240"/>
              <a:ext cx="107460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981080" y="4035600"/>
                  <a:ext cx="82404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3019320" y="1082520"/>
                  <a:ext cx="8762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5834160" y="4853160"/>
                  <a:ext cx="6699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"/>
            <p:cNvSpPr/>
            <p:nvPr/>
          </p:nvSpPr>
          <p:spPr>
            <a:xfrm flipH="1" flipV="1">
              <a:off x="2798280" y="4389120"/>
              <a:ext cx="3621240" cy="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860280" y="1811160"/>
              <a:ext cx="2613240" cy="2578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00400" y="3657600"/>
              <a:ext cx="495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09960" y="3902040"/>
              <a:ext cx="314280" cy="51120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6600600">
              <a:off x="3790440" y="2047680"/>
              <a:ext cx="314280" cy="51120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2362320"/>
              <a:ext cx="495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54100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этому 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221520" y="5486400"/>
                <a:ext cx="147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335320" y="60199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07407E-006 L 1.11022E-016 -0.11481 E">
                                      <p:cBhvr>
                                        <p:cTn id="339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1986120" y="-700200"/>
            <a:ext cx="8152920" cy="7983720"/>
            <a:chOff x="1986120" y="-700200"/>
            <a:chExt cx="8152920" cy="7983720"/>
          </a:xfrm>
        </p:grpSpPr>
        <p:sp>
          <p:nvSpPr>
            <p:cNvPr id="338" name=""/>
            <p:cNvSpPr/>
            <p:nvPr/>
          </p:nvSpPr>
          <p:spPr>
            <a:xfrm rot="6745800">
              <a:off x="3503880" y="1289880"/>
              <a:ext cx="2735280" cy="334296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862440" y="-55440"/>
              <a:ext cx="261720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3320" y="3597120"/>
              <a:ext cx="1079280" cy="263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65320" y="6210360"/>
              <a:ext cx="2627280" cy="10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464160" y="6213600"/>
              <a:ext cx="260640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9056520" y="3600360"/>
              <a:ext cx="1082520" cy="263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9069120" y="1001520"/>
              <a:ext cx="1069560" cy="262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456240" y="-60840"/>
              <a:ext cx="2630160" cy="107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607080" y="-700200"/>
                  <a:ext cx="87444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9020160" y="387360"/>
                  <a:ext cx="92664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3087720" y="6173640"/>
                  <a:ext cx="875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 flipV="1">
              <a:off x="6473880" y="-55800"/>
              <a:ext cx="0" cy="363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473880" y="1017720"/>
              <a:ext cx="2586960" cy="25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473880" y="3574800"/>
              <a:ext cx="0" cy="367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473520" y="3624120"/>
              <a:ext cx="3660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6473880" y="3575160"/>
              <a:ext cx="2547360" cy="262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895560" y="3575160"/>
              <a:ext cx="2577960" cy="262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805120" y="1001520"/>
              <a:ext cx="107424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1986120" y="3260880"/>
                  <a:ext cx="8236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3024000" y="307800"/>
                  <a:ext cx="87588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5838840" y="4078440"/>
                  <a:ext cx="669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 flipH="1" flipV="1">
              <a:off x="2803320" y="3614400"/>
              <a:ext cx="3620880" cy="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3865320" y="1036440"/>
              <a:ext cx="2612880" cy="2578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5080" y="2882880"/>
              <a:ext cx="49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14640" y="3127320"/>
              <a:ext cx="313920" cy="51120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6600600">
              <a:off x="3794760" y="1272960"/>
              <a:ext cx="314280" cy="51084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14560" y="1587600"/>
              <a:ext cx="49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5410080"/>
            <a:ext cx="421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следов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257800" y="5486400"/>
                <a:ext cx="922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553080" y="5486400"/>
                <a:ext cx="95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6134040" y="541008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36600" y="1984320"/>
            <a:ext cx="150840" cy="14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986120" y="-700200"/>
            <a:ext cx="8152920" cy="7983720"/>
            <a:chOff x="1986120" y="-700200"/>
            <a:chExt cx="8152920" cy="7983720"/>
          </a:xfrm>
        </p:grpSpPr>
        <p:grpSp>
          <p:nvGrpSpPr>
            <p:cNvPr id="375" name=""/>
            <p:cNvGrpSpPr/>
            <p:nvPr/>
          </p:nvGrpSpPr>
          <p:grpSpPr>
            <a:xfrm>
              <a:off x="1986120" y="-700200"/>
              <a:ext cx="8152920" cy="7983720"/>
              <a:chOff x="1986120" y="-700200"/>
              <a:chExt cx="8152920" cy="7983720"/>
            </a:xfrm>
          </p:grpSpPr>
          <p:sp>
            <p:nvSpPr>
              <p:cNvPr id="376" name=""/>
              <p:cNvSpPr/>
              <p:nvPr/>
            </p:nvSpPr>
            <p:spPr>
              <a:xfrm rot="6745800">
                <a:off x="3503880" y="1289880"/>
                <a:ext cx="2735280" cy="33429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862440" y="-55440"/>
                <a:ext cx="2617200" cy="1077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03320" y="3597120"/>
                <a:ext cx="1079280" cy="2633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65320" y="6210360"/>
                <a:ext cx="2627280" cy="107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6464160" y="6213600"/>
                <a:ext cx="2606400" cy="10699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9056520" y="3600360"/>
                <a:ext cx="1082520" cy="2632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9069120" y="1001520"/>
                <a:ext cx="1069560" cy="2625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6456240" y="-60840"/>
                <a:ext cx="2630160" cy="1079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4" name=""/>
                  <p:cNvSpPr txBox="1"/>
                  <p:nvPr/>
                </p:nvSpPr>
                <p:spPr>
                  <a:xfrm>
                    <a:off x="6607080" y="-700200"/>
                    <a:ext cx="874440" cy="93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5" name=""/>
                  <p:cNvSpPr txBox="1"/>
                  <p:nvPr/>
                </p:nvSpPr>
                <p:spPr>
                  <a:xfrm>
                    <a:off x="9020160" y="387360"/>
                    <a:ext cx="92664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3087720" y="6173640"/>
                    <a:ext cx="875880" cy="87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"/>
              <p:cNvSpPr/>
              <p:nvPr/>
            </p:nvSpPr>
            <p:spPr>
              <a:xfrm flipV="1">
                <a:off x="6473880" y="-55800"/>
                <a:ext cx="0" cy="3630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473880" y="1017720"/>
                <a:ext cx="2586960" cy="2557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473880" y="3574800"/>
                <a:ext cx="0" cy="367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473520" y="3624120"/>
                <a:ext cx="3660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6473880" y="3575160"/>
                <a:ext cx="2547360" cy="262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3895560" y="3575160"/>
                <a:ext cx="2577960" cy="262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2805120" y="1001520"/>
                <a:ext cx="1074240" cy="2622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4" name=""/>
                  <p:cNvSpPr txBox="1"/>
                  <p:nvPr/>
                </p:nvSpPr>
                <p:spPr>
                  <a:xfrm>
                    <a:off x="1986120" y="3260880"/>
                    <a:ext cx="823680" cy="87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5" name=""/>
                  <p:cNvSpPr txBox="1"/>
                  <p:nvPr/>
                </p:nvSpPr>
                <p:spPr>
                  <a:xfrm>
                    <a:off x="3024000" y="307800"/>
                    <a:ext cx="875880" cy="87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6" name=""/>
                  <p:cNvSpPr txBox="1"/>
                  <p:nvPr/>
                </p:nvSpPr>
                <p:spPr>
                  <a:xfrm>
                    <a:off x="5838840" y="4078440"/>
                    <a:ext cx="66960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О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7" name=""/>
              <p:cNvSpPr/>
              <p:nvPr/>
            </p:nvSpPr>
            <p:spPr>
              <a:xfrm flipH="1" flipV="1">
                <a:off x="2803320" y="3614400"/>
                <a:ext cx="3620880" cy="4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3865320" y="1036440"/>
                <a:ext cx="2612880" cy="2578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05080" y="2882880"/>
                <a:ext cx="495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14640" y="3127320"/>
                <a:ext cx="313920" cy="511200"/>
              </a:xfrm>
              <a:custGeom>
                <a:avLst/>
                <a:gdLst/>
                <a:ahLst/>
                <a:rect l="l" t="t" r="r" b="b"/>
                <a:pathLst>
                  <a:path w="198" h="322">
                    <a:moveTo>
                      <a:pt x="0" y="0"/>
                    </a:moveTo>
                    <a:cubicBezTo>
                      <a:pt x="52" y="36"/>
                      <a:pt x="105" y="72"/>
                      <a:pt x="138" y="126"/>
                    </a:cubicBezTo>
                    <a:cubicBezTo>
                      <a:pt x="171" y="180"/>
                      <a:pt x="184" y="251"/>
                      <a:pt x="198" y="322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6600600">
                <a:off x="3794760" y="1272960"/>
                <a:ext cx="314280" cy="510840"/>
              </a:xfrm>
              <a:custGeom>
                <a:avLst/>
                <a:gdLst/>
                <a:ahLst/>
                <a:rect l="l" t="t" r="r" b="b"/>
                <a:pathLst>
                  <a:path w="198" h="322">
                    <a:moveTo>
                      <a:pt x="0" y="0"/>
                    </a:moveTo>
                    <a:cubicBezTo>
                      <a:pt x="52" y="36"/>
                      <a:pt x="105" y="72"/>
                      <a:pt x="138" y="126"/>
                    </a:cubicBezTo>
                    <a:cubicBezTo>
                      <a:pt x="171" y="180"/>
                      <a:pt x="184" y="251"/>
                      <a:pt x="198" y="322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14560" y="1587600"/>
                <a:ext cx="49500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572000" y="35053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36600" y="1984320"/>
              <a:ext cx="150840" cy="14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979560" y="8364600"/>
            <a:ext cx="421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следов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162240" y="8440560"/>
                <a:ext cx="922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457880" y="8440560"/>
                <a:ext cx="9586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038480" y="8364600"/>
            <a:ext cx="533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00069 0.07824 E">
                                      <p:cBhvr>
                                        <p:cTn id="36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 rot="9421200">
            <a:off x="4414320" y="896400"/>
            <a:ext cx="281952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6745800">
            <a:off x="3499200" y="1837440"/>
            <a:ext cx="273528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857400" y="492120"/>
            <a:ext cx="2617560" cy="1077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98640" y="4145040"/>
            <a:ext cx="1079640" cy="26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60640" y="6757920"/>
            <a:ext cx="2627640" cy="107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459480" y="6761160"/>
            <a:ext cx="2606760" cy="106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9051840" y="4147920"/>
            <a:ext cx="1082880" cy="263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9064800" y="1549440"/>
            <a:ext cx="1069920" cy="262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6451200" y="487440"/>
            <a:ext cx="263052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602400" y="-152280"/>
                <a:ext cx="874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9015480" y="934920"/>
                <a:ext cx="927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083040" y="6721560"/>
                <a:ext cx="876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 flipV="1">
            <a:off x="6469200" y="491760"/>
            <a:ext cx="0" cy="363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69200" y="1565280"/>
            <a:ext cx="2587320" cy="255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69200" y="412272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469200" y="4172040"/>
            <a:ext cx="366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68840" y="4122360"/>
            <a:ext cx="25477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890880" y="4122360"/>
            <a:ext cx="25783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800080" y="1549440"/>
            <a:ext cx="1074600" cy="262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81080" y="3808440"/>
                <a:ext cx="824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019320" y="855720"/>
                <a:ext cx="87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834160" y="4626000"/>
                <a:ext cx="66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 flipH="1" flipV="1">
            <a:off x="2798280" y="4162320"/>
            <a:ext cx="3621240" cy="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3860280" y="1584000"/>
            <a:ext cx="2613240" cy="257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43044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09960" y="3675240"/>
            <a:ext cx="314280" cy="51084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6600600">
            <a:off x="3803040" y="181440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213516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67320" y="40528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831920" y="2532240"/>
            <a:ext cx="150840" cy="14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160" y="5257800"/>
            <a:ext cx="421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еуголь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429000" y="5351400"/>
                <a:ext cx="1476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4915080" y="5321160"/>
            <a:ext cx="52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92800" y="5316480"/>
                <a:ext cx="15127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6934320" y="525780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1520" y="5867280"/>
            <a:ext cx="881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двум сторонам и углу между н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 rot="9421200">
            <a:off x="4414320" y="896400"/>
            <a:ext cx="281952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6804800">
            <a:off x="3465000" y="653760"/>
            <a:ext cx="3056040" cy="2290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01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6745800">
            <a:off x="3499200" y="1837440"/>
            <a:ext cx="273528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931000">
            <a:off x="2557440" y="1582560"/>
            <a:ext cx="3056040" cy="2291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60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857400" y="492120"/>
            <a:ext cx="2617560" cy="1077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98640" y="4145040"/>
            <a:ext cx="1079640" cy="26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60640" y="6757920"/>
            <a:ext cx="2627640" cy="107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459480" y="6761160"/>
            <a:ext cx="2606760" cy="106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9051840" y="4147920"/>
            <a:ext cx="1082880" cy="263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064800" y="1549440"/>
            <a:ext cx="1069920" cy="262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6451200" y="487440"/>
            <a:ext cx="263052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6602400" y="-152280"/>
                <a:ext cx="874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015480" y="934920"/>
                <a:ext cx="927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083040" y="6721560"/>
                <a:ext cx="876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 flipV="1">
            <a:off x="6469200" y="491760"/>
            <a:ext cx="0" cy="363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469200" y="1565280"/>
            <a:ext cx="2587320" cy="255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469200" y="412272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469200" y="4172040"/>
            <a:ext cx="366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468840" y="4122360"/>
            <a:ext cx="25477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890880" y="4122360"/>
            <a:ext cx="25783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800080" y="1549440"/>
            <a:ext cx="1074600" cy="262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981080" y="3808440"/>
                <a:ext cx="824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019320" y="855720"/>
                <a:ext cx="87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834160" y="4626000"/>
                <a:ext cx="66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 flipH="1" flipV="1">
            <a:off x="2798280" y="4162320"/>
            <a:ext cx="3621240" cy="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3860280" y="1584000"/>
            <a:ext cx="2613240" cy="257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343044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09960" y="3675240"/>
            <a:ext cx="314280" cy="51084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67320" y="40528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831920" y="2532240"/>
            <a:ext cx="150840" cy="14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98320" y="5232240"/>
                <a:ext cx="28051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52680" y="5257800"/>
                <a:ext cx="997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 rot="2937600">
            <a:off x="4105440" y="1392840"/>
            <a:ext cx="277920" cy="45108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24320" y="1371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6600600">
            <a:off x="3803040" y="181440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09880" y="213516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5680" y="5130720"/>
            <a:ext cx="304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01880" y="1542960"/>
            <a:ext cx="1074960" cy="2622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852720" y="490680"/>
            <a:ext cx="2617920" cy="1077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885840" y="1600200"/>
            <a:ext cx="2575080" cy="255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92640" y="5219640"/>
            <a:ext cx="421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щая сторо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971800" y="617184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78280" y="647064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264200" y="61462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70320" y="64450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52680" y="5943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5943600"/>
            <a:ext cx="90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97280" y="5943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rot="9421200">
            <a:off x="4414320" y="896400"/>
            <a:ext cx="281952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6745800">
            <a:off x="3499200" y="1837440"/>
            <a:ext cx="273528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857400" y="492120"/>
            <a:ext cx="2617560" cy="1077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98640" y="4145040"/>
            <a:ext cx="1079640" cy="26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60640" y="6757920"/>
            <a:ext cx="2627640" cy="107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459480" y="6761160"/>
            <a:ext cx="2606760" cy="106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9051840" y="4147920"/>
            <a:ext cx="1082880" cy="263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9064800" y="1549440"/>
            <a:ext cx="1069920" cy="262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6451200" y="487440"/>
            <a:ext cx="263052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6602400" y="-152280"/>
                <a:ext cx="874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9015480" y="934920"/>
                <a:ext cx="927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083040" y="6721560"/>
                <a:ext cx="876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 flipV="1">
            <a:off x="6469200" y="491760"/>
            <a:ext cx="0" cy="363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469200" y="1565280"/>
            <a:ext cx="2587320" cy="255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469200" y="412272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469200" y="4172040"/>
            <a:ext cx="366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468840" y="4122360"/>
            <a:ext cx="25477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890880" y="4122360"/>
            <a:ext cx="25783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800080" y="1549440"/>
            <a:ext cx="1074600" cy="262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981080" y="3808440"/>
                <a:ext cx="824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019320" y="855720"/>
                <a:ext cx="87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834160" y="4626000"/>
                <a:ext cx="66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 flipH="1" flipV="1">
            <a:off x="2798280" y="4162320"/>
            <a:ext cx="3621240" cy="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860280" y="1584000"/>
            <a:ext cx="2613240" cy="257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343044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09960" y="3675240"/>
            <a:ext cx="314280" cy="51084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67320" y="40528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831920" y="2532240"/>
            <a:ext cx="150840" cy="14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191120" y="5562720"/>
                <a:ext cx="23986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 rot="2937600">
            <a:off x="4105440" y="1392840"/>
            <a:ext cx="277920" cy="45108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24320" y="1371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6600600">
            <a:off x="3803040" y="181440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9880" y="213516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54864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809440" y="4157640"/>
            <a:ext cx="3691080" cy="4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6324120" y="2204640"/>
            <a:ext cx="282600" cy="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472080" y="457200"/>
            <a:ext cx="5040" cy="3705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981080" y="-152280"/>
            <a:ext cx="8153640" cy="7983360"/>
            <a:chOff x="1981080" y="-152280"/>
            <a:chExt cx="8153640" cy="7983360"/>
          </a:xfrm>
        </p:grpSpPr>
        <p:sp>
          <p:nvSpPr>
            <p:cNvPr id="544" name=""/>
            <p:cNvSpPr/>
            <p:nvPr/>
          </p:nvSpPr>
          <p:spPr>
            <a:xfrm flipH="1">
              <a:off x="3857400" y="492120"/>
              <a:ext cx="261756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98640" y="4145040"/>
              <a:ext cx="1079640" cy="263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60640" y="6757920"/>
              <a:ext cx="2627640" cy="10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459480" y="6761160"/>
              <a:ext cx="260676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9051840" y="4147920"/>
              <a:ext cx="1082880" cy="263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9064800" y="1549440"/>
              <a:ext cx="1069920" cy="262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6451200" y="487440"/>
              <a:ext cx="26305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6602400" y="-152280"/>
                  <a:ext cx="8748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9015480" y="934920"/>
                  <a:ext cx="927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3083040" y="6721560"/>
                  <a:ext cx="87624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4" name=""/>
            <p:cNvSpPr/>
            <p:nvPr/>
          </p:nvSpPr>
          <p:spPr>
            <a:xfrm flipV="1">
              <a:off x="6469200" y="491760"/>
              <a:ext cx="0" cy="363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469200" y="1565280"/>
              <a:ext cx="2587320" cy="25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469200" y="4122720"/>
              <a:ext cx="0" cy="36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69200" y="4172040"/>
              <a:ext cx="366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468840" y="4122360"/>
              <a:ext cx="2547720" cy="262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890880" y="4122360"/>
              <a:ext cx="2578320" cy="262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800080" y="1549440"/>
              <a:ext cx="107460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1981080" y="3808440"/>
                  <a:ext cx="8240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019320" y="855720"/>
                  <a:ext cx="8762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5834160" y="4626000"/>
                  <a:ext cx="6699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4" name=""/>
            <p:cNvSpPr/>
            <p:nvPr/>
          </p:nvSpPr>
          <p:spPr>
            <a:xfrm flipH="1" flipV="1">
              <a:off x="2798280" y="4162320"/>
              <a:ext cx="3621240" cy="5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3860280" y="1584000"/>
              <a:ext cx="2613240" cy="2577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0400" y="3430440"/>
              <a:ext cx="495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09960" y="3675240"/>
              <a:ext cx="314280" cy="51084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67320" y="40528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831920" y="2532240"/>
              <a:ext cx="150840" cy="14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937600">
              <a:off x="4105440" y="1392840"/>
              <a:ext cx="277920" cy="45108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24320" y="1371600"/>
              <a:ext cx="495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6600600">
              <a:off x="3803040" y="1814400"/>
              <a:ext cx="314280" cy="511200"/>
            </a:xfrm>
            <a:custGeom>
              <a:avLst/>
              <a:gdLst/>
              <a:ahLst/>
              <a:rect l="l" t="t" r="r" b="b"/>
              <a:pathLst>
                <a:path w="198" h="322">
                  <a:moveTo>
                    <a:pt x="0" y="0"/>
                  </a:moveTo>
                  <a:cubicBezTo>
                    <a:pt x="52" y="36"/>
                    <a:pt x="105" y="72"/>
                    <a:pt x="138" y="126"/>
                  </a:cubicBezTo>
                  <a:cubicBezTo>
                    <a:pt x="171" y="180"/>
                    <a:pt x="184" y="251"/>
                    <a:pt x="198" y="322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9880" y="2135160"/>
              <a:ext cx="495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625 -2.22222E-006 E">
                                      <p:cBhvr>
                                        <p:cTn id="502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 flipH="1">
            <a:off x="2354040" y="492120"/>
            <a:ext cx="2617560" cy="1077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4145040"/>
            <a:ext cx="1079640" cy="263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57280" y="6757920"/>
            <a:ext cx="2627640" cy="107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956120" y="6761160"/>
            <a:ext cx="2606760" cy="106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548480" y="4147920"/>
            <a:ext cx="1082880" cy="263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7561440" y="1549440"/>
            <a:ext cx="1069920" cy="262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4947840" y="487440"/>
            <a:ext cx="263052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099040" y="-152280"/>
                <a:ext cx="874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512120" y="934920"/>
                <a:ext cx="927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579680" y="6721560"/>
                <a:ext cx="8762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 flipV="1">
            <a:off x="4965840" y="491760"/>
            <a:ext cx="0" cy="363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965840" y="1565280"/>
            <a:ext cx="2587320" cy="255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965840" y="412272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965840" y="4172040"/>
            <a:ext cx="366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4965480" y="4122360"/>
            <a:ext cx="25477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387520" y="4122360"/>
            <a:ext cx="2578320" cy="26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296720" y="1549440"/>
            <a:ext cx="1074600" cy="262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57200" y="3808440"/>
                <a:ext cx="8240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515960" y="855720"/>
                <a:ext cx="87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330800" y="4626000"/>
                <a:ext cx="66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 flipH="1" flipV="1">
            <a:off x="1294920" y="4162320"/>
            <a:ext cx="3621240" cy="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2356920" y="1584000"/>
            <a:ext cx="2613240" cy="257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97040" y="343044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06600" y="3675240"/>
            <a:ext cx="314280" cy="51084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063960" y="40528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328560" y="2532240"/>
            <a:ext cx="150840" cy="14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65040" y="6066000"/>
                <a:ext cx="2471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 rot="2937600">
            <a:off x="2602080" y="1392840"/>
            <a:ext cx="277920" cy="45108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20960" y="1371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6600600">
            <a:off x="2299680" y="181440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06520" y="213516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43080" y="53341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чно так же можно доказать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943520" y="1546200"/>
            <a:ext cx="2627280" cy="2594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335320" y="1558440"/>
            <a:ext cx="2627280" cy="259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380880" y="-152280"/>
            <a:ext cx="9144000" cy="7983360"/>
            <a:chOff x="380880" y="-152280"/>
            <a:chExt cx="9144000" cy="7983360"/>
          </a:xfrm>
        </p:grpSpPr>
        <p:sp>
          <p:nvSpPr>
            <p:cNvPr id="614" name=""/>
            <p:cNvSpPr/>
            <p:nvPr/>
          </p:nvSpPr>
          <p:spPr>
            <a:xfrm flipH="1">
              <a:off x="2354040" y="492120"/>
              <a:ext cx="261756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5280" y="4145040"/>
              <a:ext cx="1079640" cy="2633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57280" y="6757920"/>
              <a:ext cx="2627640" cy="107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956120" y="6761160"/>
              <a:ext cx="260676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548480" y="4147920"/>
              <a:ext cx="1082880" cy="2631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561440" y="1549440"/>
              <a:ext cx="1069920" cy="262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4947840" y="487440"/>
              <a:ext cx="26305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5099040" y="-152280"/>
                  <a:ext cx="8748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7512120" y="934920"/>
                  <a:ext cx="927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1579680" y="6721560"/>
                  <a:ext cx="87624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4" name=""/>
            <p:cNvSpPr/>
            <p:nvPr/>
          </p:nvSpPr>
          <p:spPr>
            <a:xfrm flipV="1">
              <a:off x="4965840" y="491760"/>
              <a:ext cx="0" cy="363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965840" y="1565280"/>
              <a:ext cx="2587320" cy="2557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965840" y="4122720"/>
              <a:ext cx="0" cy="36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4965840" y="4172040"/>
              <a:ext cx="366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4965480" y="4122360"/>
              <a:ext cx="2547720" cy="262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387520" y="4122360"/>
              <a:ext cx="2578320" cy="262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296720" y="1549440"/>
              <a:ext cx="107460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457200" y="3808440"/>
                  <a:ext cx="8240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1515960" y="855720"/>
                  <a:ext cx="8762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3" name=""/>
                <p:cNvSpPr txBox="1"/>
                <p:nvPr/>
              </p:nvSpPr>
              <p:spPr>
                <a:xfrm>
                  <a:off x="4330800" y="4626000"/>
                  <a:ext cx="6699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4" name=""/>
            <p:cNvSpPr/>
            <p:nvPr/>
          </p:nvSpPr>
          <p:spPr>
            <a:xfrm flipH="1" flipV="1">
              <a:off x="1294920" y="4162320"/>
              <a:ext cx="3621240" cy="5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2356920" y="1584000"/>
              <a:ext cx="2613240" cy="2577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880" y="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365040" y="6066000"/>
                <a:ext cx="2471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343080" y="53341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чно так же можно доказать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2000" fill="hold"/>
                                        <p:tgtEl>
                                          <p:spTgt spid="61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17083 E">
                                      <p:cBhvr>
                                        <p:cTn id="53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 flipH="1">
            <a:off x="3236760" y="676440"/>
            <a:ext cx="1570320" cy="64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02080" y="2868480"/>
            <a:ext cx="64764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4437000"/>
            <a:ext cx="1576440" cy="64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797360" y="4438800"/>
            <a:ext cx="1563840" cy="642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353280" y="2870280"/>
            <a:ext cx="64908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360840" y="1310760"/>
            <a:ext cx="641160" cy="157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792320" y="672840"/>
            <a:ext cx="1577880" cy="6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883040" y="289080"/>
                <a:ext cx="52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6330960" y="941400"/>
                <a:ext cx="557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771640" y="4414680"/>
                <a:ext cx="5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 flipV="1">
            <a:off x="4803840" y="676440"/>
            <a:ext cx="0" cy="21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803840" y="1320840"/>
            <a:ext cx="1552680" cy="1535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803840" y="2855520"/>
            <a:ext cx="0" cy="2203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803840" y="2884320"/>
            <a:ext cx="21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4803840" y="2855520"/>
            <a:ext cx="152856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255840" y="2855520"/>
            <a:ext cx="154800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2602080" y="1311120"/>
            <a:ext cx="644400" cy="1573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098800" y="2666880"/>
                <a:ext cx="493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2733840" y="893880"/>
                <a:ext cx="525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422600" y="3157560"/>
                <a:ext cx="401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 flipH="1" flipV="1">
            <a:off x="2602080" y="2879280"/>
            <a:ext cx="217152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238200" y="1331640"/>
            <a:ext cx="1568520" cy="15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052720" y="380880"/>
            <a:ext cx="5486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65040" y="6066000"/>
                <a:ext cx="2471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343080" y="53341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чно так же можно доказать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841480" y="6091200"/>
                <a:ext cx="2324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101000" y="265284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 flipV="1">
            <a:off x="4797360" y="659880"/>
            <a:ext cx="3240" cy="2248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95920" y="2881440"/>
            <a:ext cx="221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43680" y="6070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28600" y="5486400"/>
            <a:ext cx="9524880" cy="15238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486400"/>
            <a:ext cx="8560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усть                          правильный много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17720" y="5518080"/>
                <a:ext cx="3025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4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1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8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7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 flipH="1">
            <a:off x="3236760" y="676440"/>
            <a:ext cx="1570320" cy="64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602080" y="2868480"/>
            <a:ext cx="64764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238560" y="4437000"/>
            <a:ext cx="1576440" cy="64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797360" y="4438800"/>
            <a:ext cx="1563840" cy="642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353280" y="2870280"/>
            <a:ext cx="64908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360840" y="1310760"/>
            <a:ext cx="641160" cy="157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2320" y="672840"/>
            <a:ext cx="1577880" cy="6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883040" y="289080"/>
                <a:ext cx="52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6330960" y="941400"/>
                <a:ext cx="557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771640" y="4414680"/>
                <a:ext cx="5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 flipV="1">
            <a:off x="4803840" y="676440"/>
            <a:ext cx="0" cy="21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803840" y="1320840"/>
            <a:ext cx="1552680" cy="1535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803840" y="2855520"/>
            <a:ext cx="0" cy="2203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803840" y="2884320"/>
            <a:ext cx="21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4803840" y="2855520"/>
            <a:ext cx="152856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3255840" y="2855520"/>
            <a:ext cx="154800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602080" y="1311120"/>
            <a:ext cx="644400" cy="1573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098800" y="2666880"/>
                <a:ext cx="493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733840" y="893880"/>
                <a:ext cx="525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422600" y="3157560"/>
                <a:ext cx="401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 flipH="1" flipV="1">
            <a:off x="2602080" y="2879280"/>
            <a:ext cx="217152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3238200" y="1331640"/>
            <a:ext cx="1568520" cy="15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052720" y="380880"/>
            <a:ext cx="5486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365040" y="6066000"/>
                <a:ext cx="2471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"/>
          <p:cNvSpPr/>
          <p:nvPr/>
        </p:nvSpPr>
        <p:spPr>
          <a:xfrm>
            <a:off x="343080" y="53341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чно так же можно доказать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2841480" y="6091200"/>
                <a:ext cx="2324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101000" y="265284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 flipV="1">
            <a:off x="4791240" y="1314000"/>
            <a:ext cx="1571400" cy="1554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789440" y="2846520"/>
            <a:ext cx="1563840" cy="160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143680" y="6070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 flipH="1">
            <a:off x="3236760" y="676440"/>
            <a:ext cx="1570320" cy="64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602080" y="2868480"/>
            <a:ext cx="64764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38560" y="4437000"/>
            <a:ext cx="1576440" cy="64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797360" y="4438800"/>
            <a:ext cx="1563840" cy="642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353280" y="2870280"/>
            <a:ext cx="649080" cy="158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6360840" y="1310760"/>
            <a:ext cx="641160" cy="157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4792320" y="672840"/>
            <a:ext cx="1577880" cy="6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83040" y="289080"/>
                <a:ext cx="52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6330960" y="941400"/>
                <a:ext cx="557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771640" y="4414680"/>
                <a:ext cx="525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 flipV="1">
            <a:off x="4803840" y="676440"/>
            <a:ext cx="0" cy="2179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803840" y="1320840"/>
            <a:ext cx="1552680" cy="1535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803840" y="2855520"/>
            <a:ext cx="0" cy="2203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803840" y="2884320"/>
            <a:ext cx="21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4803840" y="2855520"/>
            <a:ext cx="152856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255840" y="2855520"/>
            <a:ext cx="1548000" cy="157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602080" y="1311120"/>
            <a:ext cx="644400" cy="1573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2098800" y="2666880"/>
                <a:ext cx="493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733840" y="893880"/>
                <a:ext cx="525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422600" y="3157560"/>
                <a:ext cx="401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H="1" flipV="1">
            <a:off x="2602080" y="2879280"/>
            <a:ext cx="217152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3238200" y="1331640"/>
            <a:ext cx="1568520" cy="15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52720" y="380880"/>
            <a:ext cx="5486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365040" y="6066000"/>
                <a:ext cx="2471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343080" y="53341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чно так же можно доказать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841480" y="6091200"/>
                <a:ext cx="2324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101000" y="265284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 flipV="1">
            <a:off x="4795920" y="2881440"/>
            <a:ext cx="220500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799160" y="2860560"/>
            <a:ext cx="10800" cy="2244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43680" y="6070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447880" y="5143320"/>
            <a:ext cx="3124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т.е. точка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1130400" y="5181480"/>
                <a:ext cx="4425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 flipV="1">
            <a:off x="4572000" y="39960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572000" y="1092240"/>
            <a:ext cx="1670040" cy="1650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572000" y="2742840"/>
            <a:ext cx="0" cy="2368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572000" y="2774880"/>
            <a:ext cx="2362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4572000" y="2743200"/>
            <a:ext cx="164448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908440" y="2743200"/>
            <a:ext cx="166356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162320" y="3067200"/>
                <a:ext cx="4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 flipH="1">
            <a:off x="2203560" y="2768760"/>
            <a:ext cx="3301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889000" y="1104840"/>
            <a:ext cx="2292120" cy="2260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5207040"/>
            <a:ext cx="114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2766960"/>
            <a:ext cx="23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76400" y="1090440"/>
            <a:ext cx="1695600" cy="1671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380880"/>
            <a:ext cx="0" cy="236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571640" y="1090440"/>
            <a:ext cx="1671480" cy="1652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552560" y="2771640"/>
            <a:ext cx="2390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4586400" y="2766600"/>
            <a:ext cx="1652400" cy="1700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572000" y="2786040"/>
            <a:ext cx="0" cy="2371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895480" y="2743200"/>
            <a:ext cx="1676520" cy="1704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588024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вноудалена от всех вершин много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 flipV="1">
            <a:off x="4572000" y="39960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572000" y="1092240"/>
            <a:ext cx="1670040" cy="1650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572000" y="2742840"/>
            <a:ext cx="0" cy="2368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572000" y="2774880"/>
            <a:ext cx="2362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4572000" y="2743200"/>
            <a:ext cx="164448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2908440" y="2743200"/>
            <a:ext cx="166356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62320" y="3067200"/>
                <a:ext cx="4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 flipH="1">
            <a:off x="2203560" y="2768760"/>
            <a:ext cx="3301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2889000" y="1104840"/>
            <a:ext cx="2292120" cy="2260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20560" y="5207040"/>
            <a:ext cx="7086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этому окружность с центром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168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радиусом         является описанной около много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395520" y="5697360"/>
                <a:ext cx="922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2174760" y="368280"/>
            <a:ext cx="4783320" cy="47973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4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590920" y="3200400"/>
            <a:ext cx="3581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еорема доказ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685800" y="2971800"/>
            <a:ext cx="79246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9620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оло любого правильного многоугольника можно описать окружность, и притом только од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38080" y="1752480"/>
            <a:ext cx="5486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Теорем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38560" y="60958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С. Петровских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1"/>
          </p:cNvPr>
          <p:cNvSpPr/>
          <p:nvPr/>
        </p:nvSpPr>
        <p:spPr>
          <a:xfrm>
            <a:off x="2933640" y="632448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99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8600" y="5486400"/>
            <a:ext cx="9524880" cy="15238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486400"/>
            <a:ext cx="8560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– точка пересечения биссектрисс углов     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905120" y="6095880"/>
                <a:ext cx="590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78200" y="6095880"/>
                <a:ext cx="627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H="1">
            <a:off x="2203560" y="2768760"/>
            <a:ext cx="3301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889000" y="1104840"/>
            <a:ext cx="2292120" cy="2260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162320" y="3067200"/>
                <a:ext cx="4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314440" y="2478240"/>
            <a:ext cx="208080" cy="2854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cubicBezTo>
                  <a:pt x="36" y="28"/>
                  <a:pt x="72" y="56"/>
                  <a:pt x="96" y="96"/>
                </a:cubicBezTo>
                <a:cubicBezTo>
                  <a:pt x="120" y="136"/>
                  <a:pt x="136" y="216"/>
                  <a:pt x="144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4284000">
            <a:off x="2274840" y="2773080"/>
            <a:ext cx="187200" cy="22860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cubicBezTo>
                  <a:pt x="36" y="28"/>
                  <a:pt x="72" y="56"/>
                  <a:pt x="96" y="96"/>
                </a:cubicBezTo>
                <a:cubicBezTo>
                  <a:pt x="120" y="136"/>
                  <a:pt x="136" y="216"/>
                  <a:pt x="144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69200">
            <a:off x="3039120" y="1008720"/>
            <a:ext cx="208080" cy="2858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cubicBezTo>
                  <a:pt x="36" y="28"/>
                  <a:pt x="72" y="56"/>
                  <a:pt x="96" y="96"/>
                </a:cubicBezTo>
                <a:cubicBezTo>
                  <a:pt x="120" y="136"/>
                  <a:pt x="136" y="216"/>
                  <a:pt x="144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6799800">
            <a:off x="2839320" y="1176120"/>
            <a:ext cx="182520" cy="2206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cubicBezTo>
                  <a:pt x="36" y="28"/>
                  <a:pt x="72" y="56"/>
                  <a:pt x="96" y="96"/>
                </a:cubicBezTo>
                <a:cubicBezTo>
                  <a:pt x="120" y="136"/>
                  <a:pt x="136" y="216"/>
                  <a:pt x="144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3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2960" y="520668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единим точку О отрезкам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остальными вершинами много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4572000" y="39960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72000" y="1092240"/>
            <a:ext cx="1670040" cy="1650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72000" y="2742840"/>
            <a:ext cx="0" cy="2368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2774880"/>
            <a:ext cx="2362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2743200"/>
            <a:ext cx="164448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908440" y="2743200"/>
            <a:ext cx="166356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62320" y="3067200"/>
                <a:ext cx="4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>
            <a:off x="2203560" y="2768760"/>
            <a:ext cx="3301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89000" y="1104840"/>
            <a:ext cx="2292120" cy="2260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6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3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2960" y="520668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единим точку О отрезкам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остальными вершинами много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87560" y="399960"/>
            <a:ext cx="1689120" cy="695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204640" y="1082520"/>
            <a:ext cx="693720" cy="1692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3560" y="2757600"/>
            <a:ext cx="696960" cy="1698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89360" y="4443480"/>
            <a:ext cx="1695240" cy="691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65520" y="4444920"/>
            <a:ext cx="1683000" cy="690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238800" y="2758680"/>
            <a:ext cx="698400" cy="169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246720" y="1082520"/>
            <a:ext cx="690480" cy="169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560840" y="396720"/>
            <a:ext cx="1697040" cy="69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76520" y="2540160"/>
                <a:ext cx="53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346480" y="635040"/>
                <a:ext cx="564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657680" y="-15840"/>
                <a:ext cx="565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215040" y="685800"/>
                <a:ext cx="598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387520" y="4419720"/>
                <a:ext cx="56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187800" y="6222960"/>
                <a:ext cx="4425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V="1">
            <a:off x="4572000" y="39960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572000" y="1092240"/>
            <a:ext cx="1670040" cy="1650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572000" y="2742840"/>
            <a:ext cx="0" cy="2368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2774880"/>
            <a:ext cx="2362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572000" y="2743200"/>
            <a:ext cx="164448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08440" y="2743200"/>
            <a:ext cx="1663560" cy="1695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162320" y="3067200"/>
                <a:ext cx="4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2203560" y="2768760"/>
            <a:ext cx="3301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889000" y="1104840"/>
            <a:ext cx="2292120" cy="2260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210360"/>
            <a:ext cx="32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докажем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766960"/>
            <a:ext cx="23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6400" y="1090440"/>
            <a:ext cx="1695600" cy="1671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80880"/>
            <a:ext cx="0" cy="236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1640" y="1090440"/>
            <a:ext cx="1671480" cy="1652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52560" y="2771640"/>
            <a:ext cx="2390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86400" y="2766600"/>
            <a:ext cx="1652400" cy="1700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72000" y="2786040"/>
            <a:ext cx="0" cy="2371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895480" y="2743200"/>
            <a:ext cx="1676520" cy="1704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-15840"/>
            <a:ext cx="5260680" cy="5151240"/>
            <a:chOff x="1676520" y="-15840"/>
            <a:chExt cx="5260680" cy="5151240"/>
          </a:xfrm>
        </p:grpSpPr>
        <p:sp>
          <p:nvSpPr>
            <p:cNvPr id="156" name=""/>
            <p:cNvSpPr/>
            <p:nvPr/>
          </p:nvSpPr>
          <p:spPr>
            <a:xfrm flipH="1">
              <a:off x="2887560" y="399960"/>
              <a:ext cx="1689120" cy="695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3560" y="2757600"/>
              <a:ext cx="696960" cy="1698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89360" y="4443480"/>
              <a:ext cx="169524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565520" y="4444920"/>
              <a:ext cx="1683000" cy="69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238800" y="2758680"/>
              <a:ext cx="698400" cy="1698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6246720" y="1082520"/>
              <a:ext cx="690480" cy="169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60840" y="396720"/>
              <a:ext cx="1697040" cy="696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4657680" y="-15840"/>
                  <a:ext cx="56520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6215040" y="685800"/>
                  <a:ext cx="59868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2387520" y="4419720"/>
                  <a:ext cx="56520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 flipV="1">
              <a:off x="4572000" y="399600"/>
              <a:ext cx="0" cy="234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572000" y="1092240"/>
              <a:ext cx="1670040" cy="1650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2742840"/>
              <a:ext cx="0" cy="236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572000" y="2774880"/>
              <a:ext cx="2362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572000" y="2743200"/>
              <a:ext cx="1644480" cy="1695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908440" y="2743200"/>
              <a:ext cx="1663560" cy="1695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04640" y="1082520"/>
              <a:ext cx="693720" cy="169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676520" y="2540160"/>
                  <a:ext cx="5317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2346480" y="635040"/>
                  <a:ext cx="56484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162320" y="3067200"/>
                  <a:ext cx="43200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 flipH="1" flipV="1">
              <a:off x="2203200" y="2768760"/>
              <a:ext cx="2336760" cy="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889000" y="1104840"/>
              <a:ext cx="1685880" cy="166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566 0.21574 E">
                                      <p:cBhvr>
                                        <p:cTn id="20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18885600">
            <a:off x="1720080" y="1617840"/>
            <a:ext cx="5037120" cy="1067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ff">
                  <a:alpha val="0"/>
                </a:srgbClr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834120" y="3805920"/>
            <a:ext cx="5037120" cy="1066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981080" y="74520"/>
            <a:ext cx="8152920" cy="7983000"/>
            <a:chOff x="1981080" y="74520"/>
            <a:chExt cx="8152920" cy="7983000"/>
          </a:xfrm>
        </p:grpSpPr>
        <p:sp>
          <p:nvSpPr>
            <p:cNvPr id="183" name=""/>
            <p:cNvSpPr/>
            <p:nvPr/>
          </p:nvSpPr>
          <p:spPr>
            <a:xfrm flipH="1">
              <a:off x="3857760" y="718920"/>
              <a:ext cx="261792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7920" y="4372560"/>
              <a:ext cx="1080000" cy="263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60640" y="6985440"/>
              <a:ext cx="2627280" cy="107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458400" y="6987600"/>
              <a:ext cx="260820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9051840" y="4374720"/>
              <a:ext cx="1082160" cy="2632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9064080" y="1776240"/>
              <a:ext cx="1069920" cy="2625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6451200" y="713880"/>
              <a:ext cx="2630160" cy="108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601320" y="74520"/>
                  <a:ext cx="875880" cy="92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015120" y="1161720"/>
                  <a:ext cx="92772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3083040" y="6948720"/>
                  <a:ext cx="875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 flipV="1">
              <a:off x="6468480" y="718560"/>
              <a:ext cx="0" cy="3631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468480" y="1791360"/>
              <a:ext cx="2588040" cy="25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468480" y="4350240"/>
              <a:ext cx="0" cy="3670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468480" y="4399560"/>
              <a:ext cx="3661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6468120" y="4349880"/>
              <a:ext cx="254844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890160" y="4349880"/>
              <a:ext cx="257832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800080" y="1776600"/>
              <a:ext cx="107496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1981080" y="4035600"/>
                  <a:ext cx="8240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019320" y="1083240"/>
                  <a:ext cx="8751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33440" y="4852440"/>
                  <a:ext cx="669240" cy="72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 flipH="1" flipV="1">
              <a:off x="2797920" y="4389840"/>
              <a:ext cx="3621600" cy="4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60640" y="1810800"/>
              <a:ext cx="2612880" cy="2578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12960" y="5409720"/>
            <a:ext cx="1841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133720" y="5486400"/>
                <a:ext cx="590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 flipV="1">
            <a:off x="1811160" y="563832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17640" y="59371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103560" y="561348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0040" y="59119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11360" y="5468760"/>
                <a:ext cx="627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641680" y="542304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2720" y="4086360"/>
            <a:ext cx="169920" cy="650880"/>
          </a:xfrm>
          <a:custGeom>
            <a:avLst/>
            <a:gdLst/>
            <a:ahLst/>
            <a:rect l="l" t="t" r="r" b="b"/>
            <a:pathLst>
              <a:path w="238" h="672">
                <a:moveTo>
                  <a:pt x="0" y="0"/>
                </a:moveTo>
                <a:cubicBezTo>
                  <a:pt x="119" y="106"/>
                  <a:pt x="238" y="212"/>
                  <a:pt x="238" y="324"/>
                </a:cubicBezTo>
                <a:cubicBezTo>
                  <a:pt x="238" y="436"/>
                  <a:pt x="40" y="614"/>
                  <a:pt x="0" y="67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2530200">
            <a:off x="3927600" y="1657440"/>
            <a:ext cx="169560" cy="650880"/>
          </a:xfrm>
          <a:custGeom>
            <a:avLst/>
            <a:gdLst/>
            <a:ahLst/>
            <a:rect l="l" t="t" r="r" b="b"/>
            <a:pathLst>
              <a:path w="238" h="672">
                <a:moveTo>
                  <a:pt x="0" y="0"/>
                </a:moveTo>
                <a:cubicBezTo>
                  <a:pt x="119" y="106"/>
                  <a:pt x="238" y="212"/>
                  <a:pt x="238" y="324"/>
                </a:cubicBezTo>
                <a:cubicBezTo>
                  <a:pt x="238" y="436"/>
                  <a:pt x="40" y="614"/>
                  <a:pt x="0" y="67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20931000">
            <a:off x="2565360" y="1793880"/>
            <a:ext cx="3056040" cy="2290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ff">
                  <a:alpha val="0"/>
                </a:srgbClr>
              </a:gs>
            </a:gsLst>
            <a:lin ang="60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4170200">
            <a:off x="2352240" y="2878920"/>
            <a:ext cx="2514600" cy="191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28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8885600">
            <a:off x="1720080" y="1617840"/>
            <a:ext cx="5037120" cy="1067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ff">
                  <a:alpha val="0"/>
                </a:srgbClr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834120" y="3805920"/>
            <a:ext cx="5037120" cy="1066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74520"/>
            <a:ext cx="8152920" cy="7983000"/>
            <a:chOff x="1981080" y="74520"/>
            <a:chExt cx="8152920" cy="7983000"/>
          </a:xfrm>
        </p:grpSpPr>
        <p:sp>
          <p:nvSpPr>
            <p:cNvPr id="223" name=""/>
            <p:cNvSpPr/>
            <p:nvPr/>
          </p:nvSpPr>
          <p:spPr>
            <a:xfrm flipH="1">
              <a:off x="3857760" y="718920"/>
              <a:ext cx="261792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97920" y="4372560"/>
              <a:ext cx="1080000" cy="263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60640" y="6985440"/>
              <a:ext cx="2627280" cy="107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458400" y="6987600"/>
              <a:ext cx="260820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051840" y="4374720"/>
              <a:ext cx="1082160" cy="2632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9064080" y="1776240"/>
              <a:ext cx="1069920" cy="2625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451200" y="713880"/>
              <a:ext cx="2630160" cy="108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601320" y="74520"/>
                  <a:ext cx="875880" cy="92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9015120" y="1161720"/>
                  <a:ext cx="92772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3083040" y="6948720"/>
                  <a:ext cx="875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 flipV="1">
              <a:off x="6468480" y="718560"/>
              <a:ext cx="0" cy="3631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468480" y="1791360"/>
              <a:ext cx="2588040" cy="25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468480" y="4350240"/>
              <a:ext cx="0" cy="3670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468480" y="4399560"/>
              <a:ext cx="3661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468120" y="4349880"/>
              <a:ext cx="254844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90160" y="4349880"/>
              <a:ext cx="257832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800080" y="1776600"/>
              <a:ext cx="107496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1981080" y="4035600"/>
                  <a:ext cx="8240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3019320" y="1083240"/>
                  <a:ext cx="8751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5833440" y="4852440"/>
                  <a:ext cx="669240" cy="72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 flipH="1" flipV="1">
              <a:off x="2797920" y="4389840"/>
              <a:ext cx="3621600" cy="4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3860640" y="1810800"/>
              <a:ext cx="2612880" cy="2578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14440" y="5409720"/>
            <a:ext cx="78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813200" y="563832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9680" y="59371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105600" y="561348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1720" y="59119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94440" y="5410080"/>
            <a:ext cx="49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13400" y="5410080"/>
            <a:ext cx="90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2600" y="541008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133720" y="5486400"/>
                <a:ext cx="590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V="1">
            <a:off x="1811160" y="563832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17640" y="59371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103560" y="561348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10040" y="591192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411360" y="5468760"/>
                <a:ext cx="627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641680" y="5423040"/>
            <a:ext cx="53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1008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657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9960" y="390204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6600600">
            <a:off x="3790440" y="204768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236232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6745800">
            <a:off x="3499200" y="2064240"/>
            <a:ext cx="2735280" cy="3343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20931000">
            <a:off x="2565360" y="1793880"/>
            <a:ext cx="3056040" cy="2290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ff"/>
              </a:gs>
              <a:gs pos="100000">
                <a:srgbClr val="0000ff">
                  <a:alpha val="0"/>
                </a:srgbClr>
              </a:gs>
            </a:gsLst>
            <a:lin ang="60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170200">
            <a:off x="2352240" y="2878920"/>
            <a:ext cx="2514600" cy="1911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28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81080" y="74520"/>
            <a:ext cx="8152920" cy="7983000"/>
            <a:chOff x="1981080" y="74520"/>
            <a:chExt cx="8152920" cy="7983000"/>
          </a:xfrm>
        </p:grpSpPr>
        <p:sp>
          <p:nvSpPr>
            <p:cNvPr id="272" name=""/>
            <p:cNvSpPr/>
            <p:nvPr/>
          </p:nvSpPr>
          <p:spPr>
            <a:xfrm flipH="1">
              <a:off x="3857760" y="718920"/>
              <a:ext cx="2617920" cy="107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97920" y="4372560"/>
              <a:ext cx="1080000" cy="263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60640" y="6985440"/>
              <a:ext cx="2627280" cy="107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458400" y="6987600"/>
              <a:ext cx="2608200" cy="10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051840" y="4374720"/>
              <a:ext cx="1082160" cy="2632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9064080" y="1776240"/>
              <a:ext cx="1069920" cy="2625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6451200" y="713880"/>
              <a:ext cx="2630160" cy="108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601320" y="74520"/>
                  <a:ext cx="875880" cy="92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9015120" y="1161720"/>
                  <a:ext cx="92772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083040" y="6948720"/>
                  <a:ext cx="875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"/>
            <p:cNvSpPr/>
            <p:nvPr/>
          </p:nvSpPr>
          <p:spPr>
            <a:xfrm flipV="1">
              <a:off x="6468480" y="718560"/>
              <a:ext cx="0" cy="3631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68480" y="1791360"/>
              <a:ext cx="2588040" cy="25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468480" y="4350240"/>
              <a:ext cx="0" cy="3670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68480" y="4399560"/>
              <a:ext cx="3661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6468120" y="4349880"/>
              <a:ext cx="254844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890160" y="4349880"/>
              <a:ext cx="2578320" cy="262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00080" y="1776600"/>
              <a:ext cx="1074960" cy="2622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981080" y="4035600"/>
                  <a:ext cx="82404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3019320" y="1083240"/>
                  <a:ext cx="8751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5833440" y="4852440"/>
                  <a:ext cx="669240" cy="72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"/>
            <p:cNvSpPr/>
            <p:nvPr/>
          </p:nvSpPr>
          <p:spPr>
            <a:xfrm flipH="1" flipV="1">
              <a:off x="2797920" y="4389840"/>
              <a:ext cx="3621600" cy="4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3860640" y="1810800"/>
              <a:ext cx="2612880" cy="2578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-228600" y="5207040"/>
            <a:ext cx="9524880" cy="17524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65760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09960" y="390204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6600600">
            <a:off x="3790440" y="2047680"/>
            <a:ext cx="314280" cy="511200"/>
          </a:xfrm>
          <a:custGeom>
            <a:avLst/>
            <a:gdLst/>
            <a:ahLst/>
            <a:rect l="l" t="t" r="r" b="b"/>
            <a:pathLst>
              <a:path w="198" h="322">
                <a:moveTo>
                  <a:pt x="0" y="0"/>
                </a:moveTo>
                <a:cubicBezTo>
                  <a:pt x="52" y="36"/>
                  <a:pt x="105" y="72"/>
                  <a:pt x="138" y="126"/>
                </a:cubicBezTo>
                <a:cubicBezTo>
                  <a:pt x="171" y="180"/>
                  <a:pt x="184" y="251"/>
                  <a:pt x="198" y="3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2362320"/>
            <a:ext cx="49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54100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этому 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221520" y="5486400"/>
                <a:ext cx="147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2335320" y="60199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/>
          </p:cNvPr>
          <p:cNvSpPr/>
          <p:nvPr/>
        </p:nvSpPr>
        <p:spPr>
          <a:xfrm>
            <a:off x="0" y="0"/>
            <a:ext cx="32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aeaea"/>
                </a:solidFill>
                <a:uFillTx/>
                <a:latin typeface="Verdana"/>
              </a:rPr>
              <a:t>http://www.matematika-na5.narod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23:53:31Z</dcterms:created>
  <dc:creator>UNICOM</dc:creator>
  <dc:description/>
  <dc:language>en-US</dc:language>
  <cp:lastModifiedBy>UNICOM</cp:lastModifiedBy>
  <dcterms:modified xsi:type="dcterms:W3CDTF">2009-02-27T15:33:5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